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suction.wav" ContentType="audio/x-wav"/>
  <Override PartName="/ppt/media/image2.png" ContentType="image/png"/>
  <Override PartName="/ppt/media/image25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push.wav" ContentType="audio/x-wav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laser.wav" ContentType="audio/x-wav"/>
  <Override PartName="/ppt/media/image16.jpeg" ContentType="image/jpeg"/>
  <Override PartName="/ppt/media/image17.png" ContentType="image/png"/>
  <Override PartName="/ppt/media/type.wav" ContentType="audio/x-wav"/>
  <Override PartName="/ppt/media/image18.png" ContentType="image/png"/>
  <Override PartName="/ppt/media/hammer.wav" ContentType="audio/x-wav"/>
  <Override PartName="/ppt/media/image20.png" ContentType="image/png"/>
  <Override PartName="/ppt/media/image2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0A6-7C71-47BD-BDCA-ABB2F7C3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C1D-76D5-4861-9F70-ED0E2B11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69EB5-D582-46B3-BEE5-BF0695B0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C83F3-ED6B-466A-9AFA-F2E1BDD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A8760-C511-428D-94B6-94351579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E5456-CCFB-4038-AD92-C74190E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C06DC-56D2-4525-9E4B-076A6B0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A93A5-373A-4E0F-A5D7-A19EBBDC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9C706-0125-4745-9115-084E5D2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5A320-73C7-4BBE-B811-1C4999E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5D2DD-3F27-4474-B9FB-72C924D9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8E4F3-BFC4-456A-85A4-ED2217D7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C27-526C-433C-AEDD-E85B48B6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5C41D-DB93-4C85-871A-866F7F75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5930B-C22A-4EDB-957C-7712A6C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BB5DC-7DA1-4C79-A29E-B857EA83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849F2-1DD0-44D9-B682-C18C1010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497BB-334D-42E4-B55D-D4F0A53D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7191A-1C48-43D4-B398-87C9A084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7644B-A5BA-4659-B6BB-2975E446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F27CA-3D77-4F06-AB06-88550EB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3DC70-E30C-49EF-8277-66A865ED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9117A-3867-41D3-BE89-710C0184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EF8-0FEA-4666-8821-5460BCF9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621C3-D9FD-46E1-A152-A1970B0C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7DE6C-C206-4293-9C63-E4A81143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3B927-0865-4114-89D2-49C2866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3C63A-C4C1-4B0F-871B-37F71B39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6D3C0-4789-4CF2-AB16-AAD9EB43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EFFF8-73A8-4A10-9B0D-D8F67B5B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BEBD5-79D6-4CDF-97AE-D2A3936D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4D0CE-53D1-4BA6-B4E5-5EB5EB93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E601A-1194-4AD4-BA09-D5C4799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B2374-3804-48C2-A647-6280A3FA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03E7-ECBE-425F-9FC8-D5832067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A8750-A994-4CEC-81C2-A647207B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40E53-A1F7-4678-8FDF-26837A43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FAF35-DCCD-4B5E-8640-3C87D683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A0651-732A-47C1-A1BA-D13AF6D3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55E84-01FD-4458-9BB9-1A4C2B75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43CBB-CF86-405B-A743-E0B51A97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47991-4D81-4574-8E71-5C124AF2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B95D6-E3C5-4BFD-A8DC-D3A32A2C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B1C2F-8638-40B4-89DC-896FE969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3A8C2-C1E3-4E0C-97B8-E9A5222E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8459-B6BF-4DA9-8A8A-42D67405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2164A-7D1A-4CD8-975B-F35F11F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A2EB3-6F53-4099-849B-483F13BB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26D6E-F2F0-4472-91FB-02A1A298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AAEF6-ECCE-42FE-9E8B-0A2A95E8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0EA25-535A-4400-B348-6CD8C9E2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85A9F-FFA5-4E45-BAAD-598D0D00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1AF33-9232-44DF-8895-20B39962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7494B-A4CC-4690-B058-80C0B82A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024B1-5D3B-4A56-B56F-8C76373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0ABA8-DFF2-4566-A43C-8C49C13B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540-A667-4FF4-948A-B3243B27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2624F-4439-45F3-8B0E-225300CB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F69BD-B140-480F-8AF3-B0E6EB5B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15AFB-F5E6-438B-94F5-E0B78F02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6011F-2DE5-4C47-83E7-5C178F22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62C69-BF5C-4884-BB23-2E5B846B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000D4-0A62-4B95-ACFD-29EEE365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9EE76-6101-4180-ADDE-2C8B5A80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AF435-809E-4F2D-AEA5-BFF8ECCA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C1D24-DFFD-42BD-8A66-2F81C711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E9645-D090-4A8B-9182-BB08F4C3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597B-B435-4924-8F49-369E612D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102B0-DFC0-43EA-82AE-362AE2A3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80E85-6C61-4A49-A06B-9260A65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83D3D-A574-43C9-AB46-F9B98A58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280B7-60BC-48D8-B2B5-3914632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4A0EC-1066-47D8-B607-72FA14BF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447F1-998C-4372-84B4-5CBC389F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AE917-1421-46BA-B020-2A490370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44A4C-4AA9-42E6-BF0A-02637115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8459B-029D-4C72-8106-F92A46EE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87A6-4F9A-478D-8869-4C51BD9B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9369-774D-44AD-A07E-89B6A8C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863D-6971-4E62-A594-A8C1C9EE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3C4-A39F-4517-B7A3-3E0BDB9F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F655-FFC6-4626-9DCA-579EDB49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2495-F195-4312-9122-79DD34D3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7833-53EE-46C4-85BB-13E732BA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4079-E7F5-48CD-A278-4B8D3B88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F05B-5739-4683-AF7A-3F8833ED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E910-F611-49C2-B4F5-452CF0FD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6E59-5961-428F-A06B-15F15575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6AE8-82C9-4982-A14B-5787383E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0573-5892-427B-8F75-AB5054FD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B410-68D6-46B7-B9D9-5F2B80FE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7C2-A2D5-4D1A-A43B-F676D2A0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B2F8-9AFD-49BD-9FD9-E26AEF80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E4AC-833D-45E9-95F0-99413914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60B7-51F6-4AAA-9064-FC234B0D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B50AA-B153-48E9-93DB-142A6CBA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CC17-6ADF-4ED1-8D69-E1DA90DE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DFE9-CAF8-45CD-A8E9-DA280F22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0906-5578-4B02-AE4E-5145A53B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DC30-60DC-4EC3-979A-96615D45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B17C-2D08-45E9-8E94-29257281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52BC-8535-4A2C-8B63-FC90827E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AD1-AFFA-4EB0-850A-116B3A4E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277B-B4EF-4B36-8EA3-CACBA84A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0596-2006-4304-8667-F0C1D127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068E-5D1E-4743-AAA9-A426112F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5AD0-9D3B-413E-9E28-D9D30E4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E8772-2A94-4840-A64E-115309C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D686-488C-4C3A-8377-BF0E99C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E2610-0B05-44AC-B2DE-AA90E512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871A-C042-4378-847A-1B67800B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76AE-E4A3-4EF0-8E1F-11823962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4B58-8362-4B2C-9AB8-7D7B0230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674-F7B6-4EE6-92E4-888997E8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39E4-7AA5-4CD7-A3AC-D79D863C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038E-CDAD-4C7D-902B-84705643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7643-73B1-4E2E-BD3D-AFA023A5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76F0-5036-45BD-9C61-288C824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7B011-A5D1-4AFB-AE9E-A787187A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F84C-7167-47DB-BCA5-72BD4E61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6F57-9D2D-4D51-AE03-5C837B14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553D7-5B66-435D-9471-8F3690B5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AA300-0D8D-42B8-98AC-F834D662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877B5-15DA-43C9-B519-4C9284B2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5D3-2D7B-4047-AB08-320611E7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72133-4300-4C59-B38D-D53FAA75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A1C47-D6FF-4849-A771-DDD0ABF2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A6B6C-772F-4FB2-A278-0A5EB96E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4F8D8-CD6F-4F5A-A693-E17644C2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D8F17-0078-4C40-98A6-46E70279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54E0-BE13-421F-8BA4-F6B09F75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2267C-96E8-4592-A8DE-B08F59B6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DE151-A733-4EB8-BC20-745F3A3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D559D-5066-4BF4-8A2E-49ED5A55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E6B12-9CC1-4AF4-8DBC-B28E42A3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780-6570-44AF-8E2C-6B7D0746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8C139-73A8-4F93-B836-B5253E9B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64BEB-DE7E-4424-A0D3-49E08015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EAF33-2B3B-41C0-A799-8C8C1E33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2820B-DAF9-4D80-8C3A-A4B24AD2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E3127-FB65-490E-8715-6BDA4493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ED11C-530D-4A4F-B26B-5045BCC7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4CFE-5248-46D7-954A-4C1ACE0D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F8B7F-775D-4704-A6D3-5B2007B8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81A7E-85AF-4A94-93B9-927C2C8C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ED444-C1A6-4A27-A643-BC4AED74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088-16B5-4D25-B0BE-7F8601E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1F01B-48F2-4C06-A44D-D935C1B9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C1549-B441-4B1B-B975-F9C56C3B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7539-71D9-4926-B26A-CF2FE7A4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79206-5186-467F-B7A4-6A8546A7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07464-F430-4CF4-B332-BA799F7F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2DE88-C500-4914-8F9F-7F7AC2B1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4D6CF-9C4A-4425-8DA6-73941DD0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E7494-E660-42ED-9708-87127508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EF459-1B10-4D1D-81F8-5AF2F2E8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83F77-DDE5-45DC-A1A0-8A4A13FD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09F-9AC4-48AF-AA9B-C783EF59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12F2F-3087-475F-9633-2CC992AB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4E352-EE98-4D9E-9354-E5C1C18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12BB9-93C3-474C-957E-0171CB0B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24D22-ADCB-45CE-B48F-41E32EE8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89D3B-5A7A-487C-A6A6-D92556A6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BA624-8554-484B-B3F7-74FA8945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007AD-79B9-4EFE-8D46-8F0037EC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279E8-80FC-473E-90B0-721C69C1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57C24-75AF-4638-98F8-47752791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01D7C-1D18-4477-A7D7-FC01CFAE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5C66-5D60-483B-89F8-521D5E4252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6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D15A-5136-4DC0-8B6A-80D21B515F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592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593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7084-3CD4-49FE-9024-83E8B5C044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7" name="Picture 3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5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1" name="Picture 7" descr="麒靈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4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6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A5A3-0C04-4A68-8886-E268F86FB1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84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5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3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4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5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6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1640"/>
                <a:gd name="textAreaBottom" fmla="*/ 2502000 h 250164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E31A-FA15-415D-BB9C-A967A1A4133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-309960" y="798480"/>
            <a:ext cx="7080120" cy="6860520"/>
            <a:chOff x="-309960" y="798480"/>
            <a:chExt cx="7080120" cy="6860520"/>
          </a:xfrm>
        </p:grpSpPr>
        <p:grpSp>
          <p:nvGrpSpPr>
            <p:cNvPr id="760" name="Group 3"/>
            <p:cNvGrpSpPr/>
            <p:nvPr/>
          </p:nvGrpSpPr>
          <p:grpSpPr>
            <a:xfrm>
              <a:off x="-309960" y="798480"/>
              <a:ext cx="7080120" cy="6860520"/>
              <a:chOff x="-309960" y="798480"/>
              <a:chExt cx="7080120" cy="6860520"/>
            </a:xfrm>
          </p:grpSpPr>
          <p:grpSp>
            <p:nvGrpSpPr>
              <p:cNvPr id="761" name="Group 4"/>
              <p:cNvGrpSpPr/>
              <p:nvPr/>
            </p:nvGrpSpPr>
            <p:grpSpPr>
              <a:xfrm>
                <a:off x="-309960" y="798480"/>
                <a:ext cx="7080120" cy="6860520"/>
                <a:chOff x="-309960" y="798480"/>
                <a:chExt cx="7080120" cy="6860520"/>
              </a:xfrm>
            </p:grpSpPr>
            <p:sp>
              <p:nvSpPr>
                <p:cNvPr id="762" name="未知"/>
                <p:cNvSpPr/>
                <p:nvPr/>
              </p:nvSpPr>
              <p:spPr>
                <a:xfrm>
                  <a:off x="368640" y="1940040"/>
                  <a:ext cx="5205600" cy="4881240"/>
                </a:xfrm>
                <a:custGeom>
                  <a:avLst/>
                  <a:gdLst>
                    <a:gd name="textAreaLeft" fmla="*/ 0 w 5205600"/>
                    <a:gd name="textAreaRight" fmla="*/ 5205960 w 5205600"/>
                    <a:gd name="textAreaTop" fmla="*/ 0 h 4881240"/>
                    <a:gd name="textAreaBottom" fmla="*/ 4881600 h 488124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763" name="Group 6"/>
                <p:cNvGrpSpPr/>
                <p:nvPr/>
              </p:nvGrpSpPr>
              <p:grpSpPr>
                <a:xfrm>
                  <a:off x="-309960" y="798480"/>
                  <a:ext cx="7080120" cy="6860520"/>
                  <a:chOff x="-309960" y="798480"/>
                  <a:chExt cx="7080120" cy="6860520"/>
                </a:xfrm>
              </p:grpSpPr>
              <p:sp>
                <p:nvSpPr>
                  <p:cNvPr id="764" name="未知"/>
                  <p:cNvSpPr/>
                  <p:nvPr/>
                </p:nvSpPr>
                <p:spPr>
                  <a:xfrm>
                    <a:off x="7200" y="1263600"/>
                    <a:ext cx="6285600" cy="5557680"/>
                  </a:xfrm>
                  <a:custGeom>
                    <a:avLst/>
                    <a:gdLst>
                      <a:gd name="textAreaLeft" fmla="*/ 0 w 6285600"/>
                      <a:gd name="textAreaRight" fmla="*/ 6285960 w 628560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未知"/>
                  <p:cNvSpPr/>
                  <p:nvPr/>
                </p:nvSpPr>
                <p:spPr>
                  <a:xfrm>
                    <a:off x="16560" y="1482840"/>
                    <a:ext cx="6030360" cy="5338440"/>
                  </a:xfrm>
                  <a:custGeom>
                    <a:avLst/>
                    <a:gdLst>
                      <a:gd name="textAreaLeft" fmla="*/ 0 w 6030360"/>
                      <a:gd name="textAreaRight" fmla="*/ 6030720 w 6030360"/>
                      <a:gd name="textAreaTop" fmla="*/ 0 h 5338440"/>
                      <a:gd name="textAreaBottom" fmla="*/ 5338800 h 533844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未知"/>
                  <p:cNvSpPr/>
                  <p:nvPr/>
                </p:nvSpPr>
                <p:spPr>
                  <a:xfrm>
                    <a:off x="188280" y="1701720"/>
                    <a:ext cx="5611320" cy="5119560"/>
                  </a:xfrm>
                  <a:custGeom>
                    <a:avLst/>
                    <a:gdLst>
                      <a:gd name="textAreaLeft" fmla="*/ 0 w 5611320"/>
                      <a:gd name="textAreaRight" fmla="*/ 5611320 w 561132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7" name="Group 10"/>
                  <p:cNvGrpSpPr/>
                  <p:nvPr/>
                </p:nvGrpSpPr>
                <p:grpSpPr>
                  <a:xfrm>
                    <a:off x="-309960" y="798480"/>
                    <a:ext cx="7080120" cy="6860520"/>
                    <a:chOff x="-309960" y="798480"/>
                    <a:chExt cx="7080120" cy="6860520"/>
                  </a:xfrm>
                </p:grpSpPr>
                <p:sp>
                  <p:nvSpPr>
                    <p:cNvPr id="768" name="未知"/>
                    <p:cNvSpPr/>
                    <p:nvPr/>
                  </p:nvSpPr>
                  <p:spPr>
                    <a:xfrm>
                      <a:off x="7200" y="798480"/>
                      <a:ext cx="6762960" cy="6022800"/>
                    </a:xfrm>
                    <a:custGeom>
                      <a:avLst/>
                      <a:gdLst>
                        <a:gd name="textAreaLeft" fmla="*/ 0 w 6762960"/>
                        <a:gd name="textAreaRight" fmla="*/ 6763320 w 676296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9" name="Group 12"/>
                    <p:cNvGrpSpPr/>
                    <p:nvPr/>
                  </p:nvGrpSpPr>
                  <p:grpSpPr>
                    <a:xfrm>
                      <a:off x="-309960" y="806040"/>
                      <a:ext cx="7070760" cy="6852960"/>
                      <a:chOff x="-309960" y="806040"/>
                      <a:chExt cx="7070760" cy="6852960"/>
                    </a:xfrm>
                  </p:grpSpPr>
                  <p:sp>
                    <p:nvSpPr>
                      <p:cNvPr id="770" name="未知"/>
                      <p:cNvSpPr/>
                      <p:nvPr/>
                    </p:nvSpPr>
                    <p:spPr>
                      <a:xfrm>
                        <a:off x="7200" y="1015920"/>
                        <a:ext cx="6534720" cy="5805360"/>
                      </a:xfrm>
                      <a:custGeom>
                        <a:avLst/>
                        <a:gdLst>
                          <a:gd name="textAreaLeft" fmla="*/ 0 w 6534720"/>
                          <a:gd name="textAreaRight" fmla="*/ 6535080 w 653472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71" name="Group 14"/>
                      <p:cNvGrpSpPr/>
                      <p:nvPr/>
                    </p:nvGrpSpPr>
                    <p:grpSpPr>
                      <a:xfrm>
                        <a:off x="-309960" y="806040"/>
                        <a:ext cx="7070760" cy="6852960"/>
                        <a:chOff x="-309960" y="806040"/>
                        <a:chExt cx="7070760" cy="6852960"/>
                      </a:xfrm>
                    </p:grpSpPr>
                    <p:sp>
                      <p:nvSpPr>
                        <p:cNvPr id="772" name="Line 15"/>
                        <p:cNvSpPr/>
                        <p:nvPr/>
                      </p:nvSpPr>
                      <p:spPr>
                        <a:xfrm flipH="1" flipV="1">
                          <a:off x="2223000" y="968760"/>
                          <a:ext cx="317520" cy="360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Line 16"/>
                        <p:cNvSpPr/>
                        <p:nvPr/>
                      </p:nvSpPr>
                      <p:spPr>
                        <a:xfrm flipH="1" flipV="1">
                          <a:off x="-6840" y="2651040"/>
                          <a:ext cx="2408760" cy="1960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Line 17"/>
                        <p:cNvSpPr/>
                        <p:nvPr/>
                      </p:nvSpPr>
                      <p:spPr>
                        <a:xfrm flipH="1" flipV="1">
                          <a:off x="7560" y="2264040"/>
                          <a:ext cx="2402280" cy="2337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Line 18"/>
                        <p:cNvSpPr/>
                        <p:nvPr/>
                      </p:nvSpPr>
                      <p:spPr>
                        <a:xfrm flipH="1" flipV="1">
                          <a:off x="6840" y="1777680"/>
                          <a:ext cx="2412360" cy="281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Line 19"/>
                        <p:cNvSpPr/>
                        <p:nvPr/>
                      </p:nvSpPr>
                      <p:spPr>
                        <a:xfrm flipH="1" flipV="1">
                          <a:off x="22680" y="1208520"/>
                          <a:ext cx="2401920" cy="336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Line 20"/>
                        <p:cNvSpPr/>
                        <p:nvPr/>
                      </p:nvSpPr>
                      <p:spPr>
                        <a:xfrm flipH="1" flipV="1">
                          <a:off x="1091520" y="806040"/>
                          <a:ext cx="1397160" cy="37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Line 21"/>
                        <p:cNvSpPr/>
                        <p:nvPr/>
                      </p:nvSpPr>
                      <p:spPr>
                        <a:xfrm flipH="1" flipV="1">
                          <a:off x="9000" y="3013200"/>
                          <a:ext cx="2385360" cy="161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Line 22"/>
                        <p:cNvSpPr/>
                        <p:nvPr/>
                      </p:nvSpPr>
                      <p:spPr>
                        <a:xfrm flipH="1" flipV="1">
                          <a:off x="4680" y="3324240"/>
                          <a:ext cx="2386080" cy="1320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Line 23"/>
                        <p:cNvSpPr/>
                        <p:nvPr/>
                      </p:nvSpPr>
                      <p:spPr>
                        <a:xfrm flipH="1">
                          <a:off x="651600" y="4781160"/>
                          <a:ext cx="1786320" cy="49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Line 24"/>
                        <p:cNvSpPr/>
                        <p:nvPr/>
                      </p:nvSpPr>
                      <p:spPr>
                        <a:xfrm flipH="1" flipV="1">
                          <a:off x="184680" y="4562280"/>
                          <a:ext cx="2229480" cy="1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Line 25"/>
                        <p:cNvSpPr/>
                        <p:nvPr/>
                      </p:nvSpPr>
                      <p:spPr>
                        <a:xfrm flipH="1" flipV="1">
                          <a:off x="7920" y="3858480"/>
                          <a:ext cx="2388600" cy="828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Line 26"/>
                        <p:cNvSpPr/>
                        <p:nvPr/>
                      </p:nvSpPr>
                      <p:spPr>
                        <a:xfrm flipH="1">
                          <a:off x="1537200" y="4857480"/>
                          <a:ext cx="972360" cy="135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Line 27"/>
                        <p:cNvSpPr/>
                        <p:nvPr/>
                      </p:nvSpPr>
                      <p:spPr>
                        <a:xfrm flipH="1">
                          <a:off x="166644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Line 28"/>
                        <p:cNvSpPr/>
                        <p:nvPr/>
                      </p:nvSpPr>
                      <p:spPr>
                        <a:xfrm flipH="1">
                          <a:off x="1785600" y="4869000"/>
                          <a:ext cx="73944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Line 29"/>
                        <p:cNvSpPr/>
                        <p:nvPr/>
                      </p:nvSpPr>
                      <p:spPr>
                        <a:xfrm flipH="1">
                          <a:off x="1913760" y="4874400"/>
                          <a:ext cx="6181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Line 30"/>
                        <p:cNvSpPr/>
                        <p:nvPr/>
                      </p:nvSpPr>
                      <p:spPr>
                        <a:xfrm flipH="1">
                          <a:off x="2061720" y="4884840"/>
                          <a:ext cx="480960" cy="1765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Line 31"/>
                        <p:cNvSpPr/>
                        <p:nvPr/>
                      </p:nvSpPr>
                      <p:spPr>
                        <a:xfrm flipH="1">
                          <a:off x="2208960" y="4888800"/>
                          <a:ext cx="341280" cy="1873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Line 32"/>
                        <p:cNvSpPr/>
                        <p:nvPr/>
                      </p:nvSpPr>
                      <p:spPr>
                        <a:xfrm flipH="1">
                          <a:off x="2573640" y="4908600"/>
                          <a:ext cx="6120" cy="1925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Line 33"/>
                        <p:cNvSpPr/>
                        <p:nvPr/>
                      </p:nvSpPr>
                      <p:spPr>
                        <a:xfrm>
                          <a:off x="2595600" y="4912200"/>
                          <a:ext cx="169920" cy="19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Line 34"/>
                        <p:cNvSpPr/>
                        <p:nvPr/>
                      </p:nvSpPr>
                      <p:spPr>
                        <a:xfrm>
                          <a:off x="2613240" y="4921920"/>
                          <a:ext cx="33156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Line 35"/>
                        <p:cNvSpPr/>
                        <p:nvPr/>
                      </p:nvSpPr>
                      <p:spPr>
                        <a:xfrm>
                          <a:off x="2634120" y="4922640"/>
                          <a:ext cx="513360" cy="1906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Line 36"/>
                        <p:cNvSpPr/>
                        <p:nvPr/>
                      </p:nvSpPr>
                      <p:spPr>
                        <a:xfrm>
                          <a:off x="2653560" y="4923000"/>
                          <a:ext cx="69480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4" name="Line 37"/>
                        <p:cNvSpPr/>
                        <p:nvPr/>
                      </p:nvSpPr>
                      <p:spPr>
                        <a:xfrm>
                          <a:off x="2665080" y="4921920"/>
                          <a:ext cx="893520" cy="189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5" name="Line 38"/>
                        <p:cNvSpPr/>
                        <p:nvPr/>
                      </p:nvSpPr>
                      <p:spPr>
                        <a:xfrm>
                          <a:off x="2689560" y="4928760"/>
                          <a:ext cx="1101240" cy="189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6" name="Line 39"/>
                        <p:cNvSpPr/>
                        <p:nvPr/>
                      </p:nvSpPr>
                      <p:spPr>
                        <a:xfrm>
                          <a:off x="2706480" y="4920840"/>
                          <a:ext cx="134712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7" name="Line 40"/>
                        <p:cNvSpPr/>
                        <p:nvPr/>
                      </p:nvSpPr>
                      <p:spPr>
                        <a:xfrm>
                          <a:off x="2728800" y="4916520"/>
                          <a:ext cx="1622160" cy="191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8" name="Line 41"/>
                        <p:cNvSpPr/>
                        <p:nvPr/>
                      </p:nvSpPr>
                      <p:spPr>
                        <a:xfrm>
                          <a:off x="2740680" y="4901400"/>
                          <a:ext cx="1941120" cy="192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9" name="Line 42"/>
                        <p:cNvSpPr/>
                        <p:nvPr/>
                      </p:nvSpPr>
                      <p:spPr>
                        <a:xfrm>
                          <a:off x="2746800" y="4888440"/>
                          <a:ext cx="2359080" cy="193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0" name="Line 43"/>
                        <p:cNvSpPr/>
                        <p:nvPr/>
                      </p:nvSpPr>
                      <p:spPr>
                        <a:xfrm>
                          <a:off x="2759040" y="4878000"/>
                          <a:ext cx="2859120" cy="195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1" name="Line 44"/>
                        <p:cNvSpPr/>
                        <p:nvPr/>
                      </p:nvSpPr>
                      <p:spPr>
                        <a:xfrm>
                          <a:off x="2764800" y="4861440"/>
                          <a:ext cx="3497040" cy="19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2" name="Line 45"/>
                        <p:cNvSpPr/>
                        <p:nvPr/>
                      </p:nvSpPr>
                      <p:spPr>
                        <a:xfrm>
                          <a:off x="2765880" y="4844520"/>
                          <a:ext cx="3955320" cy="178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3" name="Line 46"/>
                        <p:cNvSpPr/>
                        <p:nvPr/>
                      </p:nvSpPr>
                      <p:spPr>
                        <a:xfrm>
                          <a:off x="2769120" y="4826520"/>
                          <a:ext cx="3991680" cy="139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4" name="Line 47"/>
                        <p:cNvSpPr/>
                        <p:nvPr/>
                      </p:nvSpPr>
                      <p:spPr>
                        <a:xfrm>
                          <a:off x="2759400" y="4783320"/>
                          <a:ext cx="3907440" cy="657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5" name="Line 48"/>
                        <p:cNvSpPr/>
                        <p:nvPr/>
                      </p:nvSpPr>
                      <p:spPr>
                        <a:xfrm flipV="1">
                          <a:off x="2720880" y="3834720"/>
                          <a:ext cx="3217680" cy="88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6" name="Line 49"/>
                        <p:cNvSpPr/>
                        <p:nvPr/>
                      </p:nvSpPr>
                      <p:spPr>
                        <a:xfrm flipV="1">
                          <a:off x="2707920" y="3315960"/>
                          <a:ext cx="2920680" cy="1376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未知"/>
                        <p:cNvSpPr/>
                        <p:nvPr/>
                      </p:nvSpPr>
                      <p:spPr>
                        <a:xfrm>
                          <a:off x="7200" y="4014720"/>
                          <a:ext cx="2444040" cy="2806560"/>
                        </a:xfrm>
                        <a:custGeom>
                          <a:avLst/>
                          <a:gdLst>
                            <a:gd name="textAreaLeft" fmla="*/ 0 w 2444040"/>
                            <a:gd name="textAreaRight" fmla="*/ 2444400 w 24440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08" name="Group 51"/>
                        <p:cNvGrpSpPr/>
                        <p:nvPr/>
                      </p:nvGrpSpPr>
                      <p:grpSpPr>
                        <a:xfrm>
                          <a:off x="-309960" y="1285200"/>
                          <a:ext cx="6459120" cy="6373800"/>
                          <a:chOff x="-309960" y="1285200"/>
                          <a:chExt cx="6459120" cy="6373800"/>
                        </a:xfrm>
                      </p:grpSpPr>
                      <p:sp>
                        <p:nvSpPr>
                          <p:cNvPr id="809" name="Oval 52"/>
                          <p:cNvSpPr/>
                          <p:nvPr/>
                        </p:nvSpPr>
                        <p:spPr>
                          <a:xfrm rot="18780000">
                            <a:off x="2448000" y="4515840"/>
                            <a:ext cx="255600" cy="4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0" name="Oval 53"/>
                          <p:cNvSpPr/>
                          <p:nvPr/>
                        </p:nvSpPr>
                        <p:spPr>
                          <a:xfrm rot="18780000">
                            <a:off x="2361240" y="4323240"/>
                            <a:ext cx="446040" cy="795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1" name="Oval 54"/>
                          <p:cNvSpPr/>
                          <p:nvPr/>
                        </p:nvSpPr>
                        <p:spPr>
                          <a:xfrm rot="18780000">
                            <a:off x="2241360" y="4027320"/>
                            <a:ext cx="747720" cy="1289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2" name="Oval 55"/>
                          <p:cNvSpPr/>
                          <p:nvPr/>
                        </p:nvSpPr>
                        <p:spPr>
                          <a:xfrm rot="18780000">
                            <a:off x="2148840" y="3769200"/>
                            <a:ext cx="989280" cy="1790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3" name="Oval 56"/>
                          <p:cNvSpPr/>
                          <p:nvPr/>
                        </p:nvSpPr>
                        <p:spPr>
                          <a:xfrm rot="18780000">
                            <a:off x="2049840" y="3452400"/>
                            <a:ext cx="1247760" cy="232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4" name="Oval 57"/>
                          <p:cNvSpPr/>
                          <p:nvPr/>
                        </p:nvSpPr>
                        <p:spPr>
                          <a:xfrm rot="18780000">
                            <a:off x="1959120" y="3198960"/>
                            <a:ext cx="1542960" cy="2821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5" name="Oval 58"/>
                          <p:cNvSpPr/>
                          <p:nvPr/>
                        </p:nvSpPr>
                        <p:spPr>
                          <a:xfrm rot="18780000">
                            <a:off x="1829880" y="2923200"/>
                            <a:ext cx="1852920" cy="33228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6" name="Oval 59"/>
                          <p:cNvSpPr/>
                          <p:nvPr/>
                        </p:nvSpPr>
                        <p:spPr>
                          <a:xfrm rot="18780000">
                            <a:off x="1724760" y="2661840"/>
                            <a:ext cx="2136960" cy="3803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7" name="Oval 60"/>
                          <p:cNvSpPr/>
                          <p:nvPr/>
                        </p:nvSpPr>
                        <p:spPr>
                          <a:xfrm rot="18780000">
                            <a:off x="1580760" y="2409480"/>
                            <a:ext cx="2481480" cy="4274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8" name="Oval 61"/>
                          <p:cNvSpPr/>
                          <p:nvPr/>
                        </p:nvSpPr>
                        <p:spPr>
                          <a:xfrm rot="18780000">
                            <a:off x="1478160" y="2124360"/>
                            <a:ext cx="2716200" cy="4783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9" name="Oval 62"/>
                          <p:cNvSpPr/>
                          <p:nvPr/>
                        </p:nvSpPr>
                        <p:spPr>
                          <a:xfrm rot="18734400">
                            <a:off x="1386000" y="1853640"/>
                            <a:ext cx="2984400" cy="5305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0" name="Oval 63"/>
                          <p:cNvSpPr/>
                          <p:nvPr/>
                        </p:nvSpPr>
                        <p:spPr>
                          <a:xfrm rot="18819600">
                            <a:off x="1293120" y="1559880"/>
                            <a:ext cx="3252600" cy="5824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21" name="Line 64"/>
                        <p:cNvSpPr/>
                        <p:nvPr/>
                      </p:nvSpPr>
                      <p:spPr>
                        <a:xfrm flipV="1">
                          <a:off x="2633760" y="1817280"/>
                          <a:ext cx="131940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Line 65"/>
                        <p:cNvSpPr/>
                        <p:nvPr/>
                      </p:nvSpPr>
                      <p:spPr>
                        <a:xfrm flipV="1">
                          <a:off x="2646000" y="2169360"/>
                          <a:ext cx="1766160" cy="2464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Line 66"/>
                        <p:cNvSpPr/>
                        <p:nvPr/>
                      </p:nvSpPr>
                      <p:spPr>
                        <a:xfrm flipV="1">
                          <a:off x="2647800" y="1972440"/>
                          <a:ext cx="155376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Line 67"/>
                        <p:cNvSpPr/>
                        <p:nvPr/>
                      </p:nvSpPr>
                      <p:spPr>
                        <a:xfrm flipV="1">
                          <a:off x="2656440" y="2329560"/>
                          <a:ext cx="197604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Line 68"/>
                        <p:cNvSpPr/>
                        <p:nvPr/>
                      </p:nvSpPr>
                      <p:spPr>
                        <a:xfrm flipV="1">
                          <a:off x="2662920" y="2504880"/>
                          <a:ext cx="221472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Line 69"/>
                        <p:cNvSpPr/>
                        <p:nvPr/>
                      </p:nvSpPr>
                      <p:spPr>
                        <a:xfrm flipV="1">
                          <a:off x="2682720" y="2921400"/>
                          <a:ext cx="2536200" cy="1748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Line 70"/>
                        <p:cNvSpPr/>
                        <p:nvPr/>
                      </p:nvSpPr>
                      <p:spPr>
                        <a:xfrm flipV="1">
                          <a:off x="2696040" y="3132000"/>
                          <a:ext cx="2706480" cy="1548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Line 71"/>
                        <p:cNvSpPr/>
                        <p:nvPr/>
                      </p:nvSpPr>
                      <p:spPr>
                        <a:xfrm flipV="1">
                          <a:off x="2716560" y="3593160"/>
                          <a:ext cx="3029760" cy="111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Line 72"/>
                        <p:cNvSpPr/>
                        <p:nvPr/>
                      </p:nvSpPr>
                      <p:spPr>
                        <a:xfrm flipV="1">
                          <a:off x="2729520" y="4080240"/>
                          <a:ext cx="3371400" cy="646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Line 73"/>
                        <p:cNvSpPr/>
                        <p:nvPr/>
                      </p:nvSpPr>
                      <p:spPr>
                        <a:xfrm flipV="1">
                          <a:off x="2734200" y="4413600"/>
                          <a:ext cx="3545280" cy="31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Line 74"/>
                        <p:cNvSpPr/>
                        <p:nvPr/>
                      </p:nvSpPr>
                      <p:spPr>
                        <a:xfrm flipV="1">
                          <a:off x="2732400" y="4739760"/>
                          <a:ext cx="3701880" cy="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Line 75"/>
                        <p:cNvSpPr/>
                        <p:nvPr/>
                      </p:nvSpPr>
                      <p:spPr>
                        <a:xfrm>
                          <a:off x="2748960" y="4761720"/>
                          <a:ext cx="3826800" cy="31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Line 76"/>
                        <p:cNvSpPr/>
                        <p:nvPr/>
                      </p:nvSpPr>
                      <p:spPr>
                        <a:xfrm>
                          <a:off x="2767320" y="4806000"/>
                          <a:ext cx="3986640" cy="1014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Line 77"/>
                        <p:cNvSpPr/>
                        <p:nvPr/>
                      </p:nvSpPr>
                      <p:spPr>
                        <a:xfrm flipH="1">
                          <a:off x="2393640" y="4899240"/>
                          <a:ext cx="173880" cy="1920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Line 78"/>
                        <p:cNvSpPr/>
                        <p:nvPr/>
                      </p:nvSpPr>
                      <p:spPr>
                        <a:xfrm flipH="1">
                          <a:off x="142848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Line 79"/>
                        <p:cNvSpPr/>
                        <p:nvPr/>
                      </p:nvSpPr>
                      <p:spPr>
                        <a:xfrm flipH="1">
                          <a:off x="1317240" y="4833720"/>
                          <a:ext cx="116316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Line 80"/>
                        <p:cNvSpPr/>
                        <p:nvPr/>
                      </p:nvSpPr>
                      <p:spPr>
                        <a:xfrm flipH="1">
                          <a:off x="1199520" y="4825800"/>
                          <a:ext cx="1274760" cy="106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Line 81"/>
                        <p:cNvSpPr/>
                        <p:nvPr/>
                      </p:nvSpPr>
                      <p:spPr>
                        <a:xfrm flipH="1">
                          <a:off x="109620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Line 82"/>
                        <p:cNvSpPr/>
                        <p:nvPr/>
                      </p:nvSpPr>
                      <p:spPr>
                        <a:xfrm flipH="1">
                          <a:off x="990360" y="4807800"/>
                          <a:ext cx="146340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Line 83"/>
                        <p:cNvSpPr/>
                        <p:nvPr/>
                      </p:nvSpPr>
                      <p:spPr>
                        <a:xfrm flipH="1">
                          <a:off x="878400" y="4797720"/>
                          <a:ext cx="157392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Line 84"/>
                        <p:cNvSpPr/>
                        <p:nvPr/>
                      </p:nvSpPr>
                      <p:spPr>
                        <a:xfrm flipH="1">
                          <a:off x="763920" y="4788360"/>
                          <a:ext cx="1680840" cy="621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2" name="Line 85"/>
                        <p:cNvSpPr/>
                        <p:nvPr/>
                      </p:nvSpPr>
                      <p:spPr>
                        <a:xfrm flipH="1">
                          <a:off x="547920" y="4769640"/>
                          <a:ext cx="1884240" cy="349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3" name="Line 86"/>
                        <p:cNvSpPr/>
                        <p:nvPr/>
                      </p:nvSpPr>
                      <p:spPr>
                        <a:xfrm flipH="1">
                          <a:off x="425160" y="4759920"/>
                          <a:ext cx="2000160" cy="18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4" name="Line 87"/>
                        <p:cNvSpPr/>
                        <p:nvPr/>
                      </p:nvSpPr>
                      <p:spPr>
                        <a:xfrm flipH="1">
                          <a:off x="299160" y="4746960"/>
                          <a:ext cx="2117880" cy="18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440" bIns="-28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Line 88"/>
                        <p:cNvSpPr/>
                        <p:nvPr/>
                      </p:nvSpPr>
                      <p:spPr>
                        <a:xfrm flipH="1" flipV="1">
                          <a:off x="47520" y="4334760"/>
                          <a:ext cx="2361240" cy="389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6" name="Line 89"/>
                        <p:cNvSpPr/>
                        <p:nvPr/>
                      </p:nvSpPr>
                      <p:spPr>
                        <a:xfrm flipH="1" flipV="1">
                          <a:off x="7560" y="4100400"/>
                          <a:ext cx="2394000" cy="60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7" name="Line 90"/>
                        <p:cNvSpPr/>
                        <p:nvPr/>
                      </p:nvSpPr>
                      <p:spPr>
                        <a:xfrm flipH="1" flipV="1">
                          <a:off x="5760" y="3596760"/>
                          <a:ext cx="2386800" cy="107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8" name="Line 91"/>
                        <p:cNvSpPr/>
                        <p:nvPr/>
                      </p:nvSpPr>
                      <p:spPr>
                        <a:xfrm flipH="1" flipV="1">
                          <a:off x="344880" y="1009440"/>
                          <a:ext cx="2093040" cy="3562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9" name="Line 92"/>
                        <p:cNvSpPr/>
                        <p:nvPr/>
                      </p:nvSpPr>
                      <p:spPr>
                        <a:xfrm flipH="1" flipV="1">
                          <a:off x="704520" y="869040"/>
                          <a:ext cx="1753920" cy="3701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Line 93"/>
                        <p:cNvSpPr/>
                        <p:nvPr/>
                      </p:nvSpPr>
                      <p:spPr>
                        <a:xfrm flipH="1" flipV="1">
                          <a:off x="1487520" y="824040"/>
                          <a:ext cx="1016640" cy="3739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1" name="Line 94"/>
                        <p:cNvSpPr/>
                        <p:nvPr/>
                      </p:nvSpPr>
                      <p:spPr>
                        <a:xfrm flipH="1" flipV="1">
                          <a:off x="1838520" y="875880"/>
                          <a:ext cx="684360" cy="369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2" name="Line 95"/>
                        <p:cNvSpPr/>
                        <p:nvPr/>
                      </p:nvSpPr>
                      <p:spPr>
                        <a:xfrm flipV="1">
                          <a:off x="2556000" y="1079640"/>
                          <a:ext cx="5400" cy="3493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3" name="Line 96"/>
                        <p:cNvSpPr/>
                        <p:nvPr/>
                      </p:nvSpPr>
                      <p:spPr>
                        <a:xfrm flipV="1">
                          <a:off x="2576160" y="1204200"/>
                          <a:ext cx="305640" cy="337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4" name="Line 97"/>
                        <p:cNvSpPr/>
                        <p:nvPr/>
                      </p:nvSpPr>
                      <p:spPr>
                        <a:xfrm flipV="1">
                          <a:off x="2590200" y="1347840"/>
                          <a:ext cx="584640" cy="324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5" name="Line 98"/>
                        <p:cNvSpPr/>
                        <p:nvPr/>
                      </p:nvSpPr>
                      <p:spPr>
                        <a:xfrm flipV="1">
                          <a:off x="2601360" y="1497960"/>
                          <a:ext cx="846360" cy="310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6" name="Line 99"/>
                        <p:cNvSpPr/>
                        <p:nvPr/>
                      </p:nvSpPr>
                      <p:spPr>
                        <a:xfrm flipV="1">
                          <a:off x="261540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57" name="Group 100"/>
              <p:cNvGrpSpPr/>
              <p:nvPr/>
            </p:nvGrpSpPr>
            <p:grpSpPr>
              <a:xfrm>
                <a:off x="10440" y="2714760"/>
                <a:ext cx="5014440" cy="4113000"/>
                <a:chOff x="10440" y="2714760"/>
                <a:chExt cx="5014440" cy="4113000"/>
              </a:xfrm>
            </p:grpSpPr>
            <p:sp>
              <p:nvSpPr>
                <p:cNvPr id="858" name="Line 101"/>
                <p:cNvSpPr/>
                <p:nvPr/>
              </p:nvSpPr>
              <p:spPr>
                <a:xfrm flipV="1">
                  <a:off x="2675160" y="2714760"/>
                  <a:ext cx="2349720" cy="194796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02"/>
                <p:cNvSpPr/>
                <p:nvPr/>
              </p:nvSpPr>
              <p:spPr>
                <a:xfrm flipH="1" flipV="1">
                  <a:off x="1387080" y="6087960"/>
                  <a:ext cx="35352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860" name="Group 103"/>
                <p:cNvGrpSpPr/>
                <p:nvPr/>
              </p:nvGrpSpPr>
              <p:grpSpPr>
                <a:xfrm>
                  <a:off x="10440" y="4316040"/>
                  <a:ext cx="2088000" cy="2511720"/>
                  <a:chOff x="10440" y="4316040"/>
                  <a:chExt cx="2088000" cy="2511720"/>
                </a:xfrm>
              </p:grpSpPr>
              <p:sp>
                <p:nvSpPr>
                  <p:cNvPr id="861" name="Line 104"/>
                  <p:cNvSpPr/>
                  <p:nvPr/>
                </p:nvSpPr>
                <p:spPr>
                  <a:xfrm flipH="1">
                    <a:off x="1112400" y="6089760"/>
                    <a:ext cx="274320" cy="2966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未知"/>
                  <p:cNvSpPr/>
                  <p:nvPr/>
                </p:nvSpPr>
                <p:spPr>
                  <a:xfrm>
                    <a:off x="10440" y="5078520"/>
                    <a:ext cx="1595160" cy="1749240"/>
                  </a:xfrm>
                  <a:custGeom>
                    <a:avLst/>
                    <a:gdLst>
                      <a:gd name="textAreaLeft" fmla="*/ 0 w 1595160"/>
                      <a:gd name="textAreaRight" fmla="*/ 1595520 w 1595160"/>
                      <a:gd name="textAreaTop" fmla="*/ 0 h 1749240"/>
                      <a:gd name="textAreaBottom" fmla="*/ 1749600 h 174924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106"/>
                  <p:cNvSpPr/>
                  <p:nvPr/>
                </p:nvSpPr>
                <p:spPr>
                  <a:xfrm flipH="1">
                    <a:off x="1976400" y="6686640"/>
                    <a:ext cx="12204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107"/>
                  <p:cNvSpPr/>
                  <p:nvPr/>
                </p:nvSpPr>
                <p:spPr>
                  <a:xfrm flipH="1" flipV="1">
                    <a:off x="547920" y="5792760"/>
                    <a:ext cx="84168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108"/>
                  <p:cNvSpPr/>
                  <p:nvPr/>
                </p:nvSpPr>
                <p:spPr>
                  <a:xfrm flipH="1" flipV="1">
                    <a:off x="3844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109"/>
                  <p:cNvSpPr/>
                  <p:nvPr/>
                </p:nvSpPr>
                <p:spPr>
                  <a:xfrm flipH="1" flipV="1">
                    <a:off x="10440" y="4746600"/>
                    <a:ext cx="37224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110"/>
                  <p:cNvSpPr/>
                  <p:nvPr/>
                </p:nvSpPr>
                <p:spPr>
                  <a:xfrm flipV="1">
                    <a:off x="9252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111"/>
                  <p:cNvSpPr/>
                  <p:nvPr/>
                </p:nvSpPr>
                <p:spPr>
                  <a:xfrm flipH="1">
                    <a:off x="54108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112"/>
                  <p:cNvSpPr/>
                  <p:nvPr/>
                </p:nvSpPr>
                <p:spPr>
                  <a:xfrm flipV="1">
                    <a:off x="1152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0" name="Group 113"/>
            <p:cNvGrpSpPr/>
            <p:nvPr/>
          </p:nvGrpSpPr>
          <p:grpSpPr>
            <a:xfrm>
              <a:off x="7200" y="2141640"/>
              <a:ext cx="5216040" cy="4679280"/>
              <a:chOff x="7200" y="2141640"/>
              <a:chExt cx="5216040" cy="4679280"/>
            </a:xfrm>
          </p:grpSpPr>
          <p:sp>
            <p:nvSpPr>
              <p:cNvPr id="871" name="未知"/>
              <p:cNvSpPr/>
              <p:nvPr/>
            </p:nvSpPr>
            <p:spPr>
              <a:xfrm>
                <a:off x="7200" y="4252680"/>
                <a:ext cx="2283840" cy="2568240"/>
              </a:xfrm>
              <a:custGeom>
                <a:avLst/>
                <a:gdLst>
                  <a:gd name="textAreaLeft" fmla="*/ 0 w 2283840"/>
                  <a:gd name="textAreaRight" fmla="*/ 2284200 w 2283840"/>
                  <a:gd name="textAreaTop" fmla="*/ 0 h 2568240"/>
                  <a:gd name="textAreaBottom" fmla="*/ 2568600 h 256824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2" name="未知"/>
              <p:cNvSpPr/>
              <p:nvPr/>
            </p:nvSpPr>
            <p:spPr>
              <a:xfrm>
                <a:off x="7200" y="3624120"/>
                <a:ext cx="2651760" cy="3196800"/>
              </a:xfrm>
              <a:custGeom>
                <a:avLst/>
                <a:gdLst>
                  <a:gd name="textAreaLeft" fmla="*/ 0 w 2651760"/>
                  <a:gd name="textAreaRight" fmla="*/ 2652120 w 2651760"/>
                  <a:gd name="textAreaTop" fmla="*/ 0 h 3196800"/>
                  <a:gd name="textAreaBottom" fmla="*/ 3197160 h 319680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3" name="Rectangle 116"/>
              <p:cNvSpPr/>
              <p:nvPr/>
            </p:nvSpPr>
            <p:spPr>
              <a:xfrm rot="19111200">
                <a:off x="3134880" y="3082320"/>
                <a:ext cx="21456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4" name="Rectangle 117"/>
              <p:cNvSpPr/>
              <p:nvPr/>
            </p:nvSpPr>
            <p:spPr>
              <a:xfrm rot="16512000">
                <a:off x="3088800" y="4177440"/>
                <a:ext cx="35190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5" name="Rectangle 118"/>
              <p:cNvSpPr/>
              <p:nvPr/>
            </p:nvSpPr>
            <p:spPr>
              <a:xfrm rot="18182400">
                <a:off x="1588680" y="4307040"/>
                <a:ext cx="42508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76" name="Rectangle 119"/>
              <p:cNvSpPr/>
              <p:nvPr/>
            </p:nvSpPr>
            <p:spPr>
              <a:xfrm rot="20763600">
                <a:off x="1072440" y="2810880"/>
                <a:ext cx="3790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877" name="Group 120"/>
              <p:cNvGrpSpPr/>
              <p:nvPr/>
            </p:nvGrpSpPr>
            <p:grpSpPr>
              <a:xfrm>
                <a:off x="4728240" y="2141640"/>
                <a:ext cx="495000" cy="493200"/>
                <a:chOff x="4728240" y="2141640"/>
                <a:chExt cx="495000" cy="493200"/>
              </a:xfrm>
            </p:grpSpPr>
            <p:sp>
              <p:nvSpPr>
                <p:cNvPr id="878" name="Oval 121"/>
                <p:cNvSpPr/>
                <p:nvPr/>
              </p:nvSpPr>
              <p:spPr>
                <a:xfrm rot="2828400">
                  <a:off x="4743720" y="2365920"/>
                  <a:ext cx="31824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9" name="未知"/>
                <p:cNvSpPr/>
                <p:nvPr/>
              </p:nvSpPr>
              <p:spPr>
                <a:xfrm>
                  <a:off x="4843800" y="2264760"/>
                  <a:ext cx="254160" cy="2494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0" name="未知"/>
                <p:cNvSpPr/>
                <p:nvPr/>
              </p:nvSpPr>
              <p:spPr>
                <a:xfrm>
                  <a:off x="4926960" y="2255400"/>
                  <a:ext cx="182520" cy="1749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1" name="未知"/>
                <p:cNvSpPr/>
                <p:nvPr/>
              </p:nvSpPr>
              <p:spPr>
                <a:xfrm>
                  <a:off x="4991760" y="2149560"/>
                  <a:ext cx="227160" cy="224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4640"/>
                    <a:gd name="textAreaBottom" fmla="*/ 225000 h 2246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2" name="未知"/>
                <p:cNvSpPr/>
                <p:nvPr/>
              </p:nvSpPr>
              <p:spPr>
                <a:xfrm>
                  <a:off x="5135040" y="2141640"/>
                  <a:ext cx="88200" cy="83520"/>
                </a:xfrm>
                <a:custGeom>
                  <a:avLst/>
                  <a:gdLst>
                    <a:gd name="textAreaLeft" fmla="*/ 0 w 88200"/>
                    <a:gd name="textAreaRight" fmla="*/ 88560 w 8820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4c3a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4c3a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93E1-45E4-45C5-AECD-1DE4C3862B37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521B-805C-4DF7-B136-382FA9E249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84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267D-55C4-4F5A-B165-9C5997AF75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222120" y="666720"/>
            <a:ext cx="8681400" cy="6191280"/>
            <a:chOff x="-222120" y="666720"/>
            <a:chExt cx="8681400" cy="6191280"/>
          </a:xfrm>
        </p:grpSpPr>
        <p:sp>
          <p:nvSpPr>
            <p:cNvPr id="130" name="Rectangle 3"/>
            <p:cNvSpPr/>
            <p:nvPr/>
          </p:nvSpPr>
          <p:spPr>
            <a:xfrm>
              <a:off x="691560" y="666720"/>
              <a:ext cx="776772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31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34720" y="3733920"/>
              <a:ext cx="124812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2120" y="4916520"/>
              <a:ext cx="378000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8CA0-959E-49E0-BC47-0D9DCEF769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5" name="Picture 3" descr="框a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" descr="框a2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框a3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" descr="框a4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2038-86E1-49C3-BB04-C072062482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21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1640"/>
                <a:gd name="textAreaBottom" fmla="*/ 2502000 h 250164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469-E6B5-4001-A08E-79B88496797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-286200" y="762120"/>
            <a:ext cx="7080120" cy="6860520"/>
            <a:chOff x="-286200" y="762120"/>
            <a:chExt cx="7080120" cy="6860520"/>
          </a:xfrm>
        </p:grpSpPr>
        <p:grpSp>
          <p:nvGrpSpPr>
            <p:cNvPr id="297" name="Group 3"/>
            <p:cNvGrpSpPr/>
            <p:nvPr/>
          </p:nvGrpSpPr>
          <p:grpSpPr>
            <a:xfrm>
              <a:off x="-286200" y="762120"/>
              <a:ext cx="7080120" cy="6860520"/>
              <a:chOff x="-286200" y="762120"/>
              <a:chExt cx="7080120" cy="6860520"/>
            </a:xfrm>
          </p:grpSpPr>
          <p:grpSp>
            <p:nvGrpSpPr>
              <p:cNvPr id="298" name="Group 4"/>
              <p:cNvGrpSpPr/>
              <p:nvPr/>
            </p:nvGrpSpPr>
            <p:grpSpPr>
              <a:xfrm>
                <a:off x="-286200" y="762120"/>
                <a:ext cx="7080120" cy="6860520"/>
                <a:chOff x="-286200" y="762120"/>
                <a:chExt cx="7080120" cy="6860520"/>
              </a:xfrm>
            </p:grpSpPr>
            <p:sp>
              <p:nvSpPr>
                <p:cNvPr id="299" name="未知"/>
                <p:cNvSpPr/>
                <p:nvPr/>
              </p:nvSpPr>
              <p:spPr>
                <a:xfrm>
                  <a:off x="392400" y="1903680"/>
                  <a:ext cx="5205600" cy="4881240"/>
                </a:xfrm>
                <a:custGeom>
                  <a:avLst/>
                  <a:gdLst>
                    <a:gd name="textAreaLeft" fmla="*/ 0 w 5205600"/>
                    <a:gd name="textAreaRight" fmla="*/ 5205960 w 5205600"/>
                    <a:gd name="textAreaTop" fmla="*/ 0 h 4881240"/>
                    <a:gd name="textAreaBottom" fmla="*/ 4881600 h 488124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6"/>
                <p:cNvGrpSpPr/>
                <p:nvPr/>
              </p:nvGrpSpPr>
              <p:grpSpPr>
                <a:xfrm>
                  <a:off x="-286200" y="762120"/>
                  <a:ext cx="7080120" cy="6860520"/>
                  <a:chOff x="-286200" y="762120"/>
                  <a:chExt cx="7080120" cy="6860520"/>
                </a:xfrm>
              </p:grpSpPr>
              <p:sp>
                <p:nvSpPr>
                  <p:cNvPr id="301" name="未知"/>
                  <p:cNvSpPr/>
                  <p:nvPr/>
                </p:nvSpPr>
                <p:spPr>
                  <a:xfrm>
                    <a:off x="30960" y="1227240"/>
                    <a:ext cx="6285600" cy="5557680"/>
                  </a:xfrm>
                  <a:custGeom>
                    <a:avLst/>
                    <a:gdLst>
                      <a:gd name="textAreaLeft" fmla="*/ 0 w 6285600"/>
                      <a:gd name="textAreaRight" fmla="*/ 6285960 w 628560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未知"/>
                  <p:cNvSpPr/>
                  <p:nvPr/>
                </p:nvSpPr>
                <p:spPr>
                  <a:xfrm>
                    <a:off x="40320" y="1446480"/>
                    <a:ext cx="6030360" cy="5338440"/>
                  </a:xfrm>
                  <a:custGeom>
                    <a:avLst/>
                    <a:gdLst>
                      <a:gd name="textAreaLeft" fmla="*/ 0 w 6030360"/>
                      <a:gd name="textAreaRight" fmla="*/ 6030720 w 6030360"/>
                      <a:gd name="textAreaTop" fmla="*/ 0 h 5338440"/>
                      <a:gd name="textAreaBottom" fmla="*/ 5338800 h 533844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未知"/>
                  <p:cNvSpPr/>
                  <p:nvPr/>
                </p:nvSpPr>
                <p:spPr>
                  <a:xfrm>
                    <a:off x="212040" y="1665360"/>
                    <a:ext cx="5611320" cy="5119560"/>
                  </a:xfrm>
                  <a:custGeom>
                    <a:avLst/>
                    <a:gdLst>
                      <a:gd name="textAreaLeft" fmla="*/ 0 w 5611320"/>
                      <a:gd name="textAreaRight" fmla="*/ 5611320 w 561132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" name="Group 10"/>
                  <p:cNvGrpSpPr/>
                  <p:nvPr/>
                </p:nvGrpSpPr>
                <p:grpSpPr>
                  <a:xfrm>
                    <a:off x="-286200" y="762120"/>
                    <a:ext cx="7080120" cy="6860520"/>
                    <a:chOff x="-286200" y="762120"/>
                    <a:chExt cx="7080120" cy="6860520"/>
                  </a:xfrm>
                </p:grpSpPr>
                <p:sp>
                  <p:nvSpPr>
                    <p:cNvPr id="305" name="未知"/>
                    <p:cNvSpPr/>
                    <p:nvPr/>
                  </p:nvSpPr>
                  <p:spPr>
                    <a:xfrm>
                      <a:off x="30960" y="762120"/>
                      <a:ext cx="6762960" cy="6022800"/>
                    </a:xfrm>
                    <a:custGeom>
                      <a:avLst/>
                      <a:gdLst>
                        <a:gd name="textAreaLeft" fmla="*/ 0 w 6762960"/>
                        <a:gd name="textAreaRight" fmla="*/ 6763320 w 676296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6" name="Group 12"/>
                    <p:cNvGrpSpPr/>
                    <p:nvPr/>
                  </p:nvGrpSpPr>
                  <p:grpSpPr>
                    <a:xfrm>
                      <a:off x="-286200" y="769680"/>
                      <a:ext cx="7070760" cy="6852960"/>
                      <a:chOff x="-286200" y="769680"/>
                      <a:chExt cx="7070760" cy="6852960"/>
                    </a:xfrm>
                  </p:grpSpPr>
                  <p:sp>
                    <p:nvSpPr>
                      <p:cNvPr id="307" name="未知"/>
                      <p:cNvSpPr/>
                      <p:nvPr/>
                    </p:nvSpPr>
                    <p:spPr>
                      <a:xfrm>
                        <a:off x="30960" y="979560"/>
                        <a:ext cx="6534720" cy="5805360"/>
                      </a:xfrm>
                      <a:custGeom>
                        <a:avLst/>
                        <a:gdLst>
                          <a:gd name="textAreaLeft" fmla="*/ 0 w 6534720"/>
                          <a:gd name="textAreaRight" fmla="*/ 6535080 w 653472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8" name="Group 14"/>
                      <p:cNvGrpSpPr/>
                      <p:nvPr/>
                    </p:nvGrpSpPr>
                    <p:grpSpPr>
                      <a:xfrm>
                        <a:off x="-286200" y="769680"/>
                        <a:ext cx="7070760" cy="6852960"/>
                        <a:chOff x="-286200" y="769680"/>
                        <a:chExt cx="7070760" cy="6852960"/>
                      </a:xfrm>
                    </p:grpSpPr>
                    <p:sp>
                      <p:nvSpPr>
                        <p:cNvPr id="309" name="Line 15"/>
                        <p:cNvSpPr/>
                        <p:nvPr/>
                      </p:nvSpPr>
                      <p:spPr>
                        <a:xfrm flipH="1" flipV="1">
                          <a:off x="2246760" y="932400"/>
                          <a:ext cx="317520" cy="360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Line 16"/>
                        <p:cNvSpPr/>
                        <p:nvPr/>
                      </p:nvSpPr>
                      <p:spPr>
                        <a:xfrm flipH="1" flipV="1">
                          <a:off x="16920" y="2614680"/>
                          <a:ext cx="2408760" cy="1960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17"/>
                        <p:cNvSpPr/>
                        <p:nvPr/>
                      </p:nvSpPr>
                      <p:spPr>
                        <a:xfrm flipH="1" flipV="1">
                          <a:off x="31320" y="2227680"/>
                          <a:ext cx="2402280" cy="2337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18"/>
                        <p:cNvSpPr/>
                        <p:nvPr/>
                      </p:nvSpPr>
                      <p:spPr>
                        <a:xfrm flipH="1" flipV="1">
                          <a:off x="30600" y="1741320"/>
                          <a:ext cx="2412360" cy="281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19"/>
                        <p:cNvSpPr/>
                        <p:nvPr/>
                      </p:nvSpPr>
                      <p:spPr>
                        <a:xfrm flipH="1" flipV="1">
                          <a:off x="46440" y="1172160"/>
                          <a:ext cx="2401920" cy="3369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Line 20"/>
                        <p:cNvSpPr/>
                        <p:nvPr/>
                      </p:nvSpPr>
                      <p:spPr>
                        <a:xfrm flipH="1" flipV="1">
                          <a:off x="1115280" y="769680"/>
                          <a:ext cx="1397160" cy="376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Line 21"/>
                        <p:cNvSpPr/>
                        <p:nvPr/>
                      </p:nvSpPr>
                      <p:spPr>
                        <a:xfrm flipH="1" flipV="1">
                          <a:off x="32760" y="2976840"/>
                          <a:ext cx="2385360" cy="161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Line 22"/>
                        <p:cNvSpPr/>
                        <p:nvPr/>
                      </p:nvSpPr>
                      <p:spPr>
                        <a:xfrm flipH="1" flipV="1">
                          <a:off x="28440" y="3287880"/>
                          <a:ext cx="2386080" cy="1320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Line 23"/>
                        <p:cNvSpPr/>
                        <p:nvPr/>
                      </p:nvSpPr>
                      <p:spPr>
                        <a:xfrm flipH="1">
                          <a:off x="675360" y="4744800"/>
                          <a:ext cx="1786320" cy="49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Line 24"/>
                        <p:cNvSpPr/>
                        <p:nvPr/>
                      </p:nvSpPr>
                      <p:spPr>
                        <a:xfrm flipH="1" flipV="1">
                          <a:off x="208440" y="4525920"/>
                          <a:ext cx="2229480" cy="1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Line 25"/>
                        <p:cNvSpPr/>
                        <p:nvPr/>
                      </p:nvSpPr>
                      <p:spPr>
                        <a:xfrm flipH="1" flipV="1">
                          <a:off x="31680" y="3822120"/>
                          <a:ext cx="2388600" cy="828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Line 26"/>
                        <p:cNvSpPr/>
                        <p:nvPr/>
                      </p:nvSpPr>
                      <p:spPr>
                        <a:xfrm flipH="1">
                          <a:off x="1560960" y="4821120"/>
                          <a:ext cx="972360" cy="135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Line 27"/>
                        <p:cNvSpPr/>
                        <p:nvPr/>
                      </p:nvSpPr>
                      <p:spPr>
                        <a:xfrm flipH="1">
                          <a:off x="169020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Line 28"/>
                        <p:cNvSpPr/>
                        <p:nvPr/>
                      </p:nvSpPr>
                      <p:spPr>
                        <a:xfrm flipH="1">
                          <a:off x="1809360" y="4832640"/>
                          <a:ext cx="73944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Line 29"/>
                        <p:cNvSpPr/>
                        <p:nvPr/>
                      </p:nvSpPr>
                      <p:spPr>
                        <a:xfrm flipH="1">
                          <a:off x="1937520" y="4838040"/>
                          <a:ext cx="6181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Line 30"/>
                        <p:cNvSpPr/>
                        <p:nvPr/>
                      </p:nvSpPr>
                      <p:spPr>
                        <a:xfrm flipH="1">
                          <a:off x="2085480" y="4848480"/>
                          <a:ext cx="480960" cy="1765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Line 31"/>
                        <p:cNvSpPr/>
                        <p:nvPr/>
                      </p:nvSpPr>
                      <p:spPr>
                        <a:xfrm flipH="1">
                          <a:off x="2232720" y="4852440"/>
                          <a:ext cx="341280" cy="1873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Line 32"/>
                        <p:cNvSpPr/>
                        <p:nvPr/>
                      </p:nvSpPr>
                      <p:spPr>
                        <a:xfrm flipH="1">
                          <a:off x="2597400" y="4872240"/>
                          <a:ext cx="6120" cy="1925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Line 33"/>
                        <p:cNvSpPr/>
                        <p:nvPr/>
                      </p:nvSpPr>
                      <p:spPr>
                        <a:xfrm>
                          <a:off x="2619360" y="4875840"/>
                          <a:ext cx="169920" cy="19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Line 34"/>
                        <p:cNvSpPr/>
                        <p:nvPr/>
                      </p:nvSpPr>
                      <p:spPr>
                        <a:xfrm>
                          <a:off x="2637000" y="4885560"/>
                          <a:ext cx="33156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Line 35"/>
                        <p:cNvSpPr/>
                        <p:nvPr/>
                      </p:nvSpPr>
                      <p:spPr>
                        <a:xfrm>
                          <a:off x="2657880" y="4886280"/>
                          <a:ext cx="513360" cy="1906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Line 36"/>
                        <p:cNvSpPr/>
                        <p:nvPr/>
                      </p:nvSpPr>
                      <p:spPr>
                        <a:xfrm>
                          <a:off x="2677320" y="4886640"/>
                          <a:ext cx="69480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Line 37"/>
                        <p:cNvSpPr/>
                        <p:nvPr/>
                      </p:nvSpPr>
                      <p:spPr>
                        <a:xfrm>
                          <a:off x="2688840" y="4885560"/>
                          <a:ext cx="893520" cy="189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Line 38"/>
                        <p:cNvSpPr/>
                        <p:nvPr/>
                      </p:nvSpPr>
                      <p:spPr>
                        <a:xfrm>
                          <a:off x="2713320" y="4892400"/>
                          <a:ext cx="1101240" cy="189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Line 39"/>
                        <p:cNvSpPr/>
                        <p:nvPr/>
                      </p:nvSpPr>
                      <p:spPr>
                        <a:xfrm>
                          <a:off x="2730240" y="4884480"/>
                          <a:ext cx="134712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Line 40"/>
                        <p:cNvSpPr/>
                        <p:nvPr/>
                      </p:nvSpPr>
                      <p:spPr>
                        <a:xfrm>
                          <a:off x="2752560" y="4880160"/>
                          <a:ext cx="1622160" cy="191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Line 41"/>
                        <p:cNvSpPr/>
                        <p:nvPr/>
                      </p:nvSpPr>
                      <p:spPr>
                        <a:xfrm>
                          <a:off x="2764440" y="4865040"/>
                          <a:ext cx="1941120" cy="192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Line 42"/>
                        <p:cNvSpPr/>
                        <p:nvPr/>
                      </p:nvSpPr>
                      <p:spPr>
                        <a:xfrm>
                          <a:off x="2770560" y="4852080"/>
                          <a:ext cx="2359080" cy="193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Line 43"/>
                        <p:cNvSpPr/>
                        <p:nvPr/>
                      </p:nvSpPr>
                      <p:spPr>
                        <a:xfrm>
                          <a:off x="2782800" y="4841640"/>
                          <a:ext cx="2859120" cy="195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Line 44"/>
                        <p:cNvSpPr/>
                        <p:nvPr/>
                      </p:nvSpPr>
                      <p:spPr>
                        <a:xfrm>
                          <a:off x="2788560" y="4825080"/>
                          <a:ext cx="3497040" cy="19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Line 45"/>
                        <p:cNvSpPr/>
                        <p:nvPr/>
                      </p:nvSpPr>
                      <p:spPr>
                        <a:xfrm>
                          <a:off x="2789640" y="4808160"/>
                          <a:ext cx="3955320" cy="178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Line 46"/>
                        <p:cNvSpPr/>
                        <p:nvPr/>
                      </p:nvSpPr>
                      <p:spPr>
                        <a:xfrm>
                          <a:off x="2792880" y="4790160"/>
                          <a:ext cx="3991680" cy="139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Line 47"/>
                        <p:cNvSpPr/>
                        <p:nvPr/>
                      </p:nvSpPr>
                      <p:spPr>
                        <a:xfrm>
                          <a:off x="2783160" y="4746960"/>
                          <a:ext cx="3907440" cy="657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Line 48"/>
                        <p:cNvSpPr/>
                        <p:nvPr/>
                      </p:nvSpPr>
                      <p:spPr>
                        <a:xfrm flipV="1">
                          <a:off x="2744640" y="3798360"/>
                          <a:ext cx="3217680" cy="88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Line 49"/>
                        <p:cNvSpPr/>
                        <p:nvPr/>
                      </p:nvSpPr>
                      <p:spPr>
                        <a:xfrm flipV="1">
                          <a:off x="2731680" y="3279600"/>
                          <a:ext cx="2920680" cy="1376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未知"/>
                        <p:cNvSpPr/>
                        <p:nvPr/>
                      </p:nvSpPr>
                      <p:spPr>
                        <a:xfrm>
                          <a:off x="30960" y="3978360"/>
                          <a:ext cx="2444040" cy="2806560"/>
                        </a:xfrm>
                        <a:custGeom>
                          <a:avLst/>
                          <a:gdLst>
                            <a:gd name="textAreaLeft" fmla="*/ 0 w 2444040"/>
                            <a:gd name="textAreaRight" fmla="*/ 2444400 w 24440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45" name="Group 51"/>
                        <p:cNvGrpSpPr/>
                        <p:nvPr/>
                      </p:nvGrpSpPr>
                      <p:grpSpPr>
                        <a:xfrm>
                          <a:off x="-286200" y="1248840"/>
                          <a:ext cx="6459120" cy="6373800"/>
                          <a:chOff x="-286200" y="1248840"/>
                          <a:chExt cx="6459120" cy="6373800"/>
                        </a:xfrm>
                      </p:grpSpPr>
                      <p:sp>
                        <p:nvSpPr>
                          <p:cNvPr id="346" name="Oval 52"/>
                          <p:cNvSpPr/>
                          <p:nvPr/>
                        </p:nvSpPr>
                        <p:spPr>
                          <a:xfrm rot="18780000">
                            <a:off x="2471760" y="4479480"/>
                            <a:ext cx="255600" cy="44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Oval 53"/>
                          <p:cNvSpPr/>
                          <p:nvPr/>
                        </p:nvSpPr>
                        <p:spPr>
                          <a:xfrm rot="18780000">
                            <a:off x="2385000" y="4286880"/>
                            <a:ext cx="446040" cy="795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Oval 54"/>
                          <p:cNvSpPr/>
                          <p:nvPr/>
                        </p:nvSpPr>
                        <p:spPr>
                          <a:xfrm rot="18780000">
                            <a:off x="2265120" y="3990960"/>
                            <a:ext cx="747720" cy="1289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Oval 55"/>
                          <p:cNvSpPr/>
                          <p:nvPr/>
                        </p:nvSpPr>
                        <p:spPr>
                          <a:xfrm rot="18780000">
                            <a:off x="2172600" y="3732840"/>
                            <a:ext cx="989280" cy="1790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0" name="Oval 56"/>
                          <p:cNvSpPr/>
                          <p:nvPr/>
                        </p:nvSpPr>
                        <p:spPr>
                          <a:xfrm rot="18780000">
                            <a:off x="2073600" y="3416040"/>
                            <a:ext cx="1247760" cy="232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1" name="Oval 57"/>
                          <p:cNvSpPr/>
                          <p:nvPr/>
                        </p:nvSpPr>
                        <p:spPr>
                          <a:xfrm rot="18780000">
                            <a:off x="1982880" y="3162600"/>
                            <a:ext cx="1542960" cy="2821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Oval 58"/>
                          <p:cNvSpPr/>
                          <p:nvPr/>
                        </p:nvSpPr>
                        <p:spPr>
                          <a:xfrm rot="18780000">
                            <a:off x="1853640" y="2886840"/>
                            <a:ext cx="1852920" cy="33228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Oval 59"/>
                          <p:cNvSpPr/>
                          <p:nvPr/>
                        </p:nvSpPr>
                        <p:spPr>
                          <a:xfrm rot="18780000">
                            <a:off x="1748520" y="2625480"/>
                            <a:ext cx="2136960" cy="3803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Oval 60"/>
                          <p:cNvSpPr/>
                          <p:nvPr/>
                        </p:nvSpPr>
                        <p:spPr>
                          <a:xfrm rot="18780000">
                            <a:off x="1604520" y="2373120"/>
                            <a:ext cx="2481480" cy="4274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" name="Oval 61"/>
                          <p:cNvSpPr/>
                          <p:nvPr/>
                        </p:nvSpPr>
                        <p:spPr>
                          <a:xfrm rot="18780000">
                            <a:off x="1501920" y="2088000"/>
                            <a:ext cx="2716200" cy="4783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6" name="Oval 62"/>
                          <p:cNvSpPr/>
                          <p:nvPr/>
                        </p:nvSpPr>
                        <p:spPr>
                          <a:xfrm rot="18734400">
                            <a:off x="1409760" y="1817280"/>
                            <a:ext cx="2984400" cy="5305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7" name="Oval 63"/>
                          <p:cNvSpPr/>
                          <p:nvPr/>
                        </p:nvSpPr>
                        <p:spPr>
                          <a:xfrm rot="18819600">
                            <a:off x="1316880" y="1523520"/>
                            <a:ext cx="3252600" cy="5824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33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8" name="Line 64"/>
                        <p:cNvSpPr/>
                        <p:nvPr/>
                      </p:nvSpPr>
                      <p:spPr>
                        <a:xfrm flipV="1">
                          <a:off x="2657520" y="1780920"/>
                          <a:ext cx="131940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Line 65"/>
                        <p:cNvSpPr/>
                        <p:nvPr/>
                      </p:nvSpPr>
                      <p:spPr>
                        <a:xfrm flipV="1">
                          <a:off x="2669760" y="2133000"/>
                          <a:ext cx="1766160" cy="2464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Line 66"/>
                        <p:cNvSpPr/>
                        <p:nvPr/>
                      </p:nvSpPr>
                      <p:spPr>
                        <a:xfrm flipV="1">
                          <a:off x="2671560" y="1936080"/>
                          <a:ext cx="155376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Line 67"/>
                        <p:cNvSpPr/>
                        <p:nvPr/>
                      </p:nvSpPr>
                      <p:spPr>
                        <a:xfrm flipV="1">
                          <a:off x="2680200" y="2293200"/>
                          <a:ext cx="197604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Line 68"/>
                        <p:cNvSpPr/>
                        <p:nvPr/>
                      </p:nvSpPr>
                      <p:spPr>
                        <a:xfrm flipV="1">
                          <a:off x="2686680" y="2468520"/>
                          <a:ext cx="221472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Line 69"/>
                        <p:cNvSpPr/>
                        <p:nvPr/>
                      </p:nvSpPr>
                      <p:spPr>
                        <a:xfrm flipV="1">
                          <a:off x="2706480" y="2885040"/>
                          <a:ext cx="2536200" cy="1748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Line 70"/>
                        <p:cNvSpPr/>
                        <p:nvPr/>
                      </p:nvSpPr>
                      <p:spPr>
                        <a:xfrm flipV="1">
                          <a:off x="2719800" y="3095640"/>
                          <a:ext cx="2706480" cy="1548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Line 71"/>
                        <p:cNvSpPr/>
                        <p:nvPr/>
                      </p:nvSpPr>
                      <p:spPr>
                        <a:xfrm flipV="1">
                          <a:off x="2740320" y="3556800"/>
                          <a:ext cx="3029760" cy="111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Line 72"/>
                        <p:cNvSpPr/>
                        <p:nvPr/>
                      </p:nvSpPr>
                      <p:spPr>
                        <a:xfrm flipV="1">
                          <a:off x="2753280" y="4043880"/>
                          <a:ext cx="3371400" cy="646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Line 73"/>
                        <p:cNvSpPr/>
                        <p:nvPr/>
                      </p:nvSpPr>
                      <p:spPr>
                        <a:xfrm flipV="1">
                          <a:off x="2757960" y="4377240"/>
                          <a:ext cx="3545280" cy="31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Line 74"/>
                        <p:cNvSpPr/>
                        <p:nvPr/>
                      </p:nvSpPr>
                      <p:spPr>
                        <a:xfrm flipV="1">
                          <a:off x="2756160" y="4703400"/>
                          <a:ext cx="3701880" cy="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Line 75"/>
                        <p:cNvSpPr/>
                        <p:nvPr/>
                      </p:nvSpPr>
                      <p:spPr>
                        <a:xfrm>
                          <a:off x="2772720" y="4725360"/>
                          <a:ext cx="3826800" cy="31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76"/>
                        <p:cNvSpPr/>
                        <p:nvPr/>
                      </p:nvSpPr>
                      <p:spPr>
                        <a:xfrm>
                          <a:off x="2791080" y="4769640"/>
                          <a:ext cx="3986640" cy="1014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77"/>
                        <p:cNvSpPr/>
                        <p:nvPr/>
                      </p:nvSpPr>
                      <p:spPr>
                        <a:xfrm flipH="1">
                          <a:off x="2417400" y="4862880"/>
                          <a:ext cx="173880" cy="1920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78"/>
                        <p:cNvSpPr/>
                        <p:nvPr/>
                      </p:nvSpPr>
                      <p:spPr>
                        <a:xfrm flipH="1">
                          <a:off x="145224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Line 79"/>
                        <p:cNvSpPr/>
                        <p:nvPr/>
                      </p:nvSpPr>
                      <p:spPr>
                        <a:xfrm flipH="1">
                          <a:off x="1341000" y="4797360"/>
                          <a:ext cx="116316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Line 80"/>
                        <p:cNvSpPr/>
                        <p:nvPr/>
                      </p:nvSpPr>
                      <p:spPr>
                        <a:xfrm flipH="1">
                          <a:off x="1223280" y="4789440"/>
                          <a:ext cx="1274760" cy="106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81"/>
                        <p:cNvSpPr/>
                        <p:nvPr/>
                      </p:nvSpPr>
                      <p:spPr>
                        <a:xfrm flipH="1">
                          <a:off x="111996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82"/>
                        <p:cNvSpPr/>
                        <p:nvPr/>
                      </p:nvSpPr>
                      <p:spPr>
                        <a:xfrm flipH="1">
                          <a:off x="1014120" y="4771440"/>
                          <a:ext cx="146340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83"/>
                        <p:cNvSpPr/>
                        <p:nvPr/>
                      </p:nvSpPr>
                      <p:spPr>
                        <a:xfrm flipH="1">
                          <a:off x="902160" y="4761360"/>
                          <a:ext cx="157392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Line 84"/>
                        <p:cNvSpPr/>
                        <p:nvPr/>
                      </p:nvSpPr>
                      <p:spPr>
                        <a:xfrm flipH="1">
                          <a:off x="787680" y="4752000"/>
                          <a:ext cx="1680840" cy="621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Line 85"/>
                        <p:cNvSpPr/>
                        <p:nvPr/>
                      </p:nvSpPr>
                      <p:spPr>
                        <a:xfrm flipH="1">
                          <a:off x="571680" y="4733280"/>
                          <a:ext cx="1884240" cy="349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86"/>
                        <p:cNvSpPr/>
                        <p:nvPr/>
                      </p:nvSpPr>
                      <p:spPr>
                        <a:xfrm flipH="1">
                          <a:off x="448920" y="4723560"/>
                          <a:ext cx="2000160" cy="18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87"/>
                        <p:cNvSpPr/>
                        <p:nvPr/>
                      </p:nvSpPr>
                      <p:spPr>
                        <a:xfrm flipH="1">
                          <a:off x="322920" y="4710600"/>
                          <a:ext cx="2117880" cy="18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440" bIns="-28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88"/>
                        <p:cNvSpPr/>
                        <p:nvPr/>
                      </p:nvSpPr>
                      <p:spPr>
                        <a:xfrm flipH="1" flipV="1">
                          <a:off x="71280" y="4298400"/>
                          <a:ext cx="2361240" cy="389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Line 89"/>
                        <p:cNvSpPr/>
                        <p:nvPr/>
                      </p:nvSpPr>
                      <p:spPr>
                        <a:xfrm flipH="1" flipV="1">
                          <a:off x="31320" y="4064040"/>
                          <a:ext cx="2394000" cy="60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Line 90"/>
                        <p:cNvSpPr/>
                        <p:nvPr/>
                      </p:nvSpPr>
                      <p:spPr>
                        <a:xfrm flipH="1" flipV="1">
                          <a:off x="29520" y="3560400"/>
                          <a:ext cx="2386800" cy="107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91"/>
                        <p:cNvSpPr/>
                        <p:nvPr/>
                      </p:nvSpPr>
                      <p:spPr>
                        <a:xfrm flipH="1" flipV="1">
                          <a:off x="368640" y="973080"/>
                          <a:ext cx="2093040" cy="3562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92"/>
                        <p:cNvSpPr/>
                        <p:nvPr/>
                      </p:nvSpPr>
                      <p:spPr>
                        <a:xfrm flipH="1" flipV="1">
                          <a:off x="728280" y="832680"/>
                          <a:ext cx="1753920" cy="3701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93"/>
                        <p:cNvSpPr/>
                        <p:nvPr/>
                      </p:nvSpPr>
                      <p:spPr>
                        <a:xfrm flipH="1" flipV="1">
                          <a:off x="1511280" y="787680"/>
                          <a:ext cx="1016640" cy="3739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Line 94"/>
                        <p:cNvSpPr/>
                        <p:nvPr/>
                      </p:nvSpPr>
                      <p:spPr>
                        <a:xfrm flipH="1" flipV="1">
                          <a:off x="1862280" y="839520"/>
                          <a:ext cx="684360" cy="369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9" name="Line 95"/>
                        <p:cNvSpPr/>
                        <p:nvPr/>
                      </p:nvSpPr>
                      <p:spPr>
                        <a:xfrm flipV="1">
                          <a:off x="2579760" y="1043280"/>
                          <a:ext cx="5400" cy="3493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Line 96"/>
                        <p:cNvSpPr/>
                        <p:nvPr/>
                      </p:nvSpPr>
                      <p:spPr>
                        <a:xfrm flipV="1">
                          <a:off x="2599920" y="1167840"/>
                          <a:ext cx="305640" cy="337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Line 97"/>
                        <p:cNvSpPr/>
                        <p:nvPr/>
                      </p:nvSpPr>
                      <p:spPr>
                        <a:xfrm flipV="1">
                          <a:off x="2613960" y="1311480"/>
                          <a:ext cx="584640" cy="3245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Line 98"/>
                        <p:cNvSpPr/>
                        <p:nvPr/>
                      </p:nvSpPr>
                      <p:spPr>
                        <a:xfrm flipV="1">
                          <a:off x="2625120" y="1461600"/>
                          <a:ext cx="846360" cy="310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Line 99"/>
                        <p:cNvSpPr/>
                        <p:nvPr/>
                      </p:nvSpPr>
                      <p:spPr>
                        <a:xfrm flipV="1">
                          <a:off x="263916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94" name="Group 100"/>
              <p:cNvGrpSpPr/>
              <p:nvPr/>
            </p:nvGrpSpPr>
            <p:grpSpPr>
              <a:xfrm>
                <a:off x="34200" y="2678400"/>
                <a:ext cx="5014440" cy="4113000"/>
                <a:chOff x="34200" y="2678400"/>
                <a:chExt cx="5014440" cy="4113000"/>
              </a:xfrm>
            </p:grpSpPr>
            <p:sp>
              <p:nvSpPr>
                <p:cNvPr id="395" name="Line 101"/>
                <p:cNvSpPr/>
                <p:nvPr/>
              </p:nvSpPr>
              <p:spPr>
                <a:xfrm flipV="1">
                  <a:off x="2698920" y="2678400"/>
                  <a:ext cx="2349720" cy="194796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02"/>
                <p:cNvSpPr/>
                <p:nvPr/>
              </p:nvSpPr>
              <p:spPr>
                <a:xfrm flipH="1" flipV="1">
                  <a:off x="1410840" y="6051600"/>
                  <a:ext cx="35352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103"/>
                <p:cNvGrpSpPr/>
                <p:nvPr/>
              </p:nvGrpSpPr>
              <p:grpSpPr>
                <a:xfrm>
                  <a:off x="34200" y="4279680"/>
                  <a:ext cx="2088000" cy="2511720"/>
                  <a:chOff x="34200" y="4279680"/>
                  <a:chExt cx="2088000" cy="2511720"/>
                </a:xfrm>
              </p:grpSpPr>
              <p:sp>
                <p:nvSpPr>
                  <p:cNvPr id="398" name="Line 104"/>
                  <p:cNvSpPr/>
                  <p:nvPr/>
                </p:nvSpPr>
                <p:spPr>
                  <a:xfrm flipH="1">
                    <a:off x="1136160" y="6053400"/>
                    <a:ext cx="274320" cy="2966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未知"/>
                  <p:cNvSpPr/>
                  <p:nvPr/>
                </p:nvSpPr>
                <p:spPr>
                  <a:xfrm>
                    <a:off x="34200" y="5042160"/>
                    <a:ext cx="1595160" cy="1749240"/>
                  </a:xfrm>
                  <a:custGeom>
                    <a:avLst/>
                    <a:gdLst>
                      <a:gd name="textAreaLeft" fmla="*/ 0 w 1595160"/>
                      <a:gd name="textAreaRight" fmla="*/ 1595520 w 1595160"/>
                      <a:gd name="textAreaTop" fmla="*/ 0 h 1749240"/>
                      <a:gd name="textAreaBottom" fmla="*/ 1749600 h 174924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106"/>
                  <p:cNvSpPr/>
                  <p:nvPr/>
                </p:nvSpPr>
                <p:spPr>
                  <a:xfrm flipH="1">
                    <a:off x="2000160" y="6650280"/>
                    <a:ext cx="12204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107"/>
                  <p:cNvSpPr/>
                  <p:nvPr/>
                </p:nvSpPr>
                <p:spPr>
                  <a:xfrm flipH="1" flipV="1">
                    <a:off x="571680" y="5756400"/>
                    <a:ext cx="84168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108"/>
                  <p:cNvSpPr/>
                  <p:nvPr/>
                </p:nvSpPr>
                <p:spPr>
                  <a:xfrm flipH="1" flipV="1">
                    <a:off x="4082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109"/>
                  <p:cNvSpPr/>
                  <p:nvPr/>
                </p:nvSpPr>
                <p:spPr>
                  <a:xfrm flipH="1" flipV="1">
                    <a:off x="34200" y="4710240"/>
                    <a:ext cx="37224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110"/>
                  <p:cNvSpPr/>
                  <p:nvPr/>
                </p:nvSpPr>
                <p:spPr>
                  <a:xfrm flipV="1">
                    <a:off x="11628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111"/>
                  <p:cNvSpPr/>
                  <p:nvPr/>
                </p:nvSpPr>
                <p:spPr>
                  <a:xfrm flipH="1">
                    <a:off x="56484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112"/>
                  <p:cNvSpPr/>
                  <p:nvPr/>
                </p:nvSpPr>
                <p:spPr>
                  <a:xfrm flipV="1">
                    <a:off x="3528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7" name="Group 113"/>
            <p:cNvGrpSpPr/>
            <p:nvPr/>
          </p:nvGrpSpPr>
          <p:grpSpPr>
            <a:xfrm>
              <a:off x="30960" y="2105280"/>
              <a:ext cx="5216040" cy="4679280"/>
              <a:chOff x="30960" y="2105280"/>
              <a:chExt cx="5216040" cy="4679280"/>
            </a:xfrm>
          </p:grpSpPr>
          <p:sp>
            <p:nvSpPr>
              <p:cNvPr id="408" name="未知"/>
              <p:cNvSpPr/>
              <p:nvPr/>
            </p:nvSpPr>
            <p:spPr>
              <a:xfrm>
                <a:off x="30960" y="4216320"/>
                <a:ext cx="2283840" cy="2568240"/>
              </a:xfrm>
              <a:custGeom>
                <a:avLst/>
                <a:gdLst>
                  <a:gd name="textAreaLeft" fmla="*/ 0 w 2283840"/>
                  <a:gd name="textAreaRight" fmla="*/ 2284200 w 2283840"/>
                  <a:gd name="textAreaTop" fmla="*/ 0 h 2568240"/>
                  <a:gd name="textAreaBottom" fmla="*/ 2568600 h 256824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>
                <a:off x="30960" y="3587760"/>
                <a:ext cx="2651760" cy="3196800"/>
              </a:xfrm>
              <a:custGeom>
                <a:avLst/>
                <a:gdLst>
                  <a:gd name="textAreaLeft" fmla="*/ 0 w 2651760"/>
                  <a:gd name="textAreaRight" fmla="*/ 2652120 w 2651760"/>
                  <a:gd name="textAreaTop" fmla="*/ 0 h 3196800"/>
                  <a:gd name="textAreaBottom" fmla="*/ 3197160 h 319680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0" name="Rectangle 116"/>
              <p:cNvSpPr/>
              <p:nvPr/>
            </p:nvSpPr>
            <p:spPr>
              <a:xfrm rot="19111200">
                <a:off x="3158640" y="3045960"/>
                <a:ext cx="21456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1" name="Rectangle 117"/>
              <p:cNvSpPr/>
              <p:nvPr/>
            </p:nvSpPr>
            <p:spPr>
              <a:xfrm rot="16512000">
                <a:off x="3112560" y="4141080"/>
                <a:ext cx="35190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2" name="Rectangle 118"/>
              <p:cNvSpPr/>
              <p:nvPr/>
            </p:nvSpPr>
            <p:spPr>
              <a:xfrm rot="18182400">
                <a:off x="1612440" y="4270680"/>
                <a:ext cx="42508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3" name="Rectangle 119"/>
              <p:cNvSpPr/>
              <p:nvPr/>
            </p:nvSpPr>
            <p:spPr>
              <a:xfrm rot="20763600">
                <a:off x="1096200" y="2774520"/>
                <a:ext cx="3790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14" name="Group 120"/>
              <p:cNvGrpSpPr/>
              <p:nvPr/>
            </p:nvGrpSpPr>
            <p:grpSpPr>
              <a:xfrm>
                <a:off x="4752000" y="2105280"/>
                <a:ext cx="495000" cy="493200"/>
                <a:chOff x="4752000" y="2105280"/>
                <a:chExt cx="495000" cy="493200"/>
              </a:xfrm>
            </p:grpSpPr>
            <p:sp>
              <p:nvSpPr>
                <p:cNvPr id="415" name="Oval 121"/>
                <p:cNvSpPr/>
                <p:nvPr/>
              </p:nvSpPr>
              <p:spPr>
                <a:xfrm rot="2828400">
                  <a:off x="4767480" y="2329560"/>
                  <a:ext cx="31824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6" name="未知"/>
                <p:cNvSpPr/>
                <p:nvPr/>
              </p:nvSpPr>
              <p:spPr>
                <a:xfrm>
                  <a:off x="4867560" y="2228400"/>
                  <a:ext cx="254160" cy="2494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7" name="未知"/>
                <p:cNvSpPr/>
                <p:nvPr/>
              </p:nvSpPr>
              <p:spPr>
                <a:xfrm>
                  <a:off x="4950720" y="2219040"/>
                  <a:ext cx="182520" cy="1749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8" name="未知"/>
                <p:cNvSpPr/>
                <p:nvPr/>
              </p:nvSpPr>
              <p:spPr>
                <a:xfrm>
                  <a:off x="5015520" y="2113200"/>
                  <a:ext cx="227160" cy="2246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4640"/>
                    <a:gd name="textAreaBottom" fmla="*/ 225000 h 2246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9" name="未知"/>
                <p:cNvSpPr/>
                <p:nvPr/>
              </p:nvSpPr>
              <p:spPr>
                <a:xfrm>
                  <a:off x="5158800" y="2105280"/>
                  <a:ext cx="88200" cy="83520"/>
                </a:xfrm>
                <a:custGeom>
                  <a:avLst/>
                  <a:gdLst>
                    <a:gd name="textAreaLeft" fmla="*/ 0 w 88200"/>
                    <a:gd name="textAreaRight" fmla="*/ 88560 w 8820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0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FF55-C772-4A81-8535-6DE44A8B320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c4c3a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4c3a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104C-943B-4BF3-8FDB-FCF72F4480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03" name="Picture 3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E62B-C953-4195-85A6-8537EEBEDC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audio" Target="../media/push.wav"/><Relationship Id="rId11" Type="http://schemas.openxmlformats.org/officeDocument/2006/relationships/audio" Target="../media/push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extBox 4"/>
          <p:cNvSpPr/>
          <p:nvPr/>
        </p:nvSpPr>
        <p:spPr>
          <a:xfrm>
            <a:off x="1979640" y="4653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冀教版一年级上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5" name="TextBox 5"/>
          <p:cNvSpPr/>
          <p:nvPr/>
        </p:nvSpPr>
        <p:spPr>
          <a:xfrm>
            <a:off x="1403280" y="2205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0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歌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30240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lián</a:t>
            </a:r>
            <a:br>
              <a:rPr sz="6600"/>
            </a:br>
            <a:r>
              <a:rPr b="1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连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042920" y="2997000"/>
            <a:ext cx="5400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连忙　连环画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心连心　连接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29527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gē</a:t>
            </a:r>
            <a:br>
              <a:rPr sz="80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歌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116000" y="3068640"/>
            <a:ext cx="483408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歌曲　唱歌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歌声　歌谣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266364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hái</a:t>
            </a:r>
            <a:br>
              <a:rPr sz="88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孩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042920" y="3284640"/>
            <a:ext cx="5843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孩子　小孩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孩童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2952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hé</a:t>
            </a:r>
            <a:br>
              <a:rPr sz="88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和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116000" y="3500280"/>
            <a:ext cx="5338800" cy="24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和平　和气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和好　你和我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31669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lā</a:t>
            </a:r>
            <a:br>
              <a:rPr sz="88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拉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86920" y="3284640"/>
            <a:ext cx="5185080" cy="22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拉手　拉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拉萨　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2808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liǎn</a:t>
            </a:r>
            <a:br>
              <a:rPr sz="66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脸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258920" y="3141360"/>
            <a:ext cx="468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脸红　脸色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脸蛋　脸皮</a:t>
            </a:r>
            <a:r>
              <a:rPr b="0" lang="zh-CN" sz="6600" spc="-1" strike="noStrike">
                <a:solidFill>
                  <a:srgbClr val="ff33cc"/>
                </a:solidFill>
                <a:latin typeface="Verdana"/>
              </a:rPr>
              <a:t>　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338472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nán</a:t>
            </a:r>
            <a:br>
              <a:rPr sz="8800"/>
            </a:br>
            <a:r>
              <a:rPr b="0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男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258560" y="3284280"/>
            <a:ext cx="4608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男孩　男生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男子汉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3382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nǚ</a:t>
            </a:r>
            <a:br>
              <a:rPr sz="88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女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116000" y="3933360"/>
            <a:ext cx="4834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女生　女孩</a:t>
            </a:r>
            <a:r>
              <a:rPr b="0" lang="zh-CN" sz="6600" spc="-1" strike="noStrike">
                <a:solidFill>
                  <a:srgbClr val="ff33cc"/>
                </a:solidFill>
                <a:latin typeface="Verdana"/>
              </a:rPr>
              <a:t>　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39718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quán</a:t>
            </a:r>
            <a:br>
              <a:rPr sz="88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全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26920" y="3429000"/>
            <a:ext cx="712800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全国　全班　全家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全部　完全</a:t>
            </a:r>
            <a:r>
              <a:rPr b="0" lang="zh-CN" sz="6600" spc="-1" strike="noStrike">
                <a:solidFill>
                  <a:srgbClr val="ff33cc"/>
                </a:solidFill>
                <a:latin typeface="Verdana"/>
              </a:rPr>
              <a:t>　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403236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shì</a:t>
            </a:r>
            <a:br>
              <a:rPr sz="66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世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99640" y="3068640"/>
            <a:ext cx="519444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世界　世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世家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2"/>
          <p:cNvSpPr/>
          <p:nvPr/>
        </p:nvSpPr>
        <p:spPr>
          <a:xfrm>
            <a:off x="611280" y="486900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男孩子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4284720" y="4869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女孩子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8" name="Picture 4" descr="2457331_205029016528_2[1]"/>
          <p:cNvPicPr/>
          <p:nvPr/>
        </p:nvPicPr>
        <p:blipFill>
          <a:blip r:embed="rId2"/>
          <a:srcRect l="0" t="4396" r="0" b="8709"/>
          <a:stretch/>
        </p:blipFill>
        <p:spPr>
          <a:xfrm>
            <a:off x="611280" y="692280"/>
            <a:ext cx="3470040" cy="4248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" descr="6421580388394487057[1]"/>
          <p:cNvPicPr/>
          <p:nvPr/>
        </p:nvPicPr>
        <p:blipFill>
          <a:blip r:embed="rId3"/>
          <a:srcRect l="24532" t="0" r="31902" b="8628"/>
          <a:stretch/>
        </p:blipFill>
        <p:spPr>
          <a:xfrm>
            <a:off x="4356000" y="692280"/>
            <a:ext cx="3044880" cy="423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30243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jiè</a:t>
            </a:r>
            <a:br>
              <a:rPr sz="66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界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71280" y="407664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世界　界限</a:t>
            </a:r>
            <a:r>
              <a:rPr b="0" lang="zh-CN" sz="6600" spc="-1" strike="noStrike">
                <a:solidFill>
                  <a:srgbClr val="ff33cc"/>
                </a:solidFill>
                <a:latin typeface="Verdana"/>
              </a:rPr>
              <a:t>　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-252720" y="981000"/>
            <a:ext cx="453708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xīn</a:t>
            </a:r>
            <a:br>
              <a:rPr sz="8800"/>
            </a:br>
            <a:r>
              <a:rPr b="0" lang="zh-CN" sz="8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心</a:t>
            </a:r>
            <a:endParaRPr b="0" lang="en-US" sz="8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55280" y="3213000"/>
            <a:ext cx="734364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心里　心情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心事　心疼　心胸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Group 2"/>
          <p:cNvGrpSpPr/>
          <p:nvPr/>
        </p:nvGrpSpPr>
        <p:grpSpPr>
          <a:xfrm>
            <a:off x="1403280" y="1052640"/>
            <a:ext cx="1960200" cy="1960200"/>
            <a:chOff x="1403280" y="1052640"/>
            <a:chExt cx="1960200" cy="1960200"/>
          </a:xfrm>
        </p:grpSpPr>
        <p:sp>
          <p:nvSpPr>
            <p:cNvPr id="968" name="Rectangle 3"/>
            <p:cNvSpPr/>
            <p:nvPr/>
          </p:nvSpPr>
          <p:spPr>
            <a:xfrm>
              <a:off x="1403280" y="105264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9" name="Line 4"/>
            <p:cNvSpPr/>
            <p:nvPr/>
          </p:nvSpPr>
          <p:spPr>
            <a:xfrm>
              <a:off x="1403280" y="203256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0" name="Line 5"/>
            <p:cNvSpPr/>
            <p:nvPr/>
          </p:nvSpPr>
          <p:spPr>
            <a:xfrm>
              <a:off x="2383200" y="105264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1" name="Group 6"/>
          <p:cNvGrpSpPr/>
          <p:nvPr/>
        </p:nvGrpSpPr>
        <p:grpSpPr>
          <a:xfrm>
            <a:off x="4643280" y="1125360"/>
            <a:ext cx="1960200" cy="1960560"/>
            <a:chOff x="4643280" y="1125360"/>
            <a:chExt cx="1960200" cy="1960560"/>
          </a:xfrm>
        </p:grpSpPr>
        <p:sp>
          <p:nvSpPr>
            <p:cNvPr id="972" name="Rectangle 7"/>
            <p:cNvSpPr/>
            <p:nvPr/>
          </p:nvSpPr>
          <p:spPr>
            <a:xfrm>
              <a:off x="4643280" y="1125360"/>
              <a:ext cx="1960200" cy="196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3" name="Line 8"/>
            <p:cNvSpPr/>
            <p:nvPr/>
          </p:nvSpPr>
          <p:spPr>
            <a:xfrm>
              <a:off x="4643280" y="210564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Line 9"/>
            <p:cNvSpPr/>
            <p:nvPr/>
          </p:nvSpPr>
          <p:spPr>
            <a:xfrm>
              <a:off x="5623200" y="1125360"/>
              <a:ext cx="0" cy="196056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5" name="Group 10"/>
          <p:cNvGrpSpPr/>
          <p:nvPr/>
        </p:nvGrpSpPr>
        <p:grpSpPr>
          <a:xfrm>
            <a:off x="1403280" y="3645000"/>
            <a:ext cx="1960200" cy="1960200"/>
            <a:chOff x="1403280" y="3645000"/>
            <a:chExt cx="1960200" cy="1960200"/>
          </a:xfrm>
        </p:grpSpPr>
        <p:sp>
          <p:nvSpPr>
            <p:cNvPr id="976" name="Rectangle 11"/>
            <p:cNvSpPr/>
            <p:nvPr/>
          </p:nvSpPr>
          <p:spPr>
            <a:xfrm>
              <a:off x="1403280" y="364500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7" name="Line 12"/>
            <p:cNvSpPr/>
            <p:nvPr/>
          </p:nvSpPr>
          <p:spPr>
            <a:xfrm>
              <a:off x="1403280" y="462492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8" name="Line 13"/>
            <p:cNvSpPr/>
            <p:nvPr/>
          </p:nvSpPr>
          <p:spPr>
            <a:xfrm>
              <a:off x="2383200" y="364500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9" name="Group 14"/>
          <p:cNvGrpSpPr/>
          <p:nvPr/>
        </p:nvGrpSpPr>
        <p:grpSpPr>
          <a:xfrm>
            <a:off x="4643280" y="3573360"/>
            <a:ext cx="1960200" cy="1960200"/>
            <a:chOff x="4643280" y="3573360"/>
            <a:chExt cx="1960200" cy="1960200"/>
          </a:xfrm>
        </p:grpSpPr>
        <p:sp>
          <p:nvSpPr>
            <p:cNvPr id="980" name="Rectangle 15"/>
            <p:cNvSpPr/>
            <p:nvPr/>
          </p:nvSpPr>
          <p:spPr>
            <a:xfrm>
              <a:off x="4643280" y="357336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1" name="Line 16"/>
            <p:cNvSpPr/>
            <p:nvPr/>
          </p:nvSpPr>
          <p:spPr>
            <a:xfrm>
              <a:off x="4643280" y="455328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2" name="Line 17"/>
            <p:cNvSpPr/>
            <p:nvPr/>
          </p:nvSpPr>
          <p:spPr>
            <a:xfrm>
              <a:off x="5623200" y="357336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83" name="Text Box 18"/>
          <p:cNvSpPr/>
          <p:nvPr/>
        </p:nvSpPr>
        <p:spPr>
          <a:xfrm>
            <a:off x="1476360" y="981000"/>
            <a:ext cx="1513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33cc"/>
                </a:solidFill>
                <a:latin typeface="Arial"/>
                <a:ea typeface="楷体_GB2312"/>
              </a:rPr>
              <a:t>女</a:t>
            </a:r>
            <a:endParaRPr b="0" lang="en-US" sz="1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4" name="Text Box 19"/>
          <p:cNvSpPr/>
          <p:nvPr/>
        </p:nvSpPr>
        <p:spPr>
          <a:xfrm>
            <a:off x="4788000" y="1052640"/>
            <a:ext cx="13683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33cc"/>
                </a:solidFill>
                <a:latin typeface="Arial"/>
                <a:ea typeface="楷体_GB2312"/>
              </a:rPr>
              <a:t>手</a:t>
            </a:r>
            <a:endParaRPr b="0" lang="en-US" sz="1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5" name="Text Box 20"/>
          <p:cNvSpPr/>
          <p:nvPr/>
        </p:nvSpPr>
        <p:spPr>
          <a:xfrm>
            <a:off x="1476360" y="3573360"/>
            <a:ext cx="2016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33cc"/>
                </a:solidFill>
                <a:latin typeface="Arial"/>
                <a:ea typeface="楷体_GB2312"/>
              </a:rPr>
              <a:t>大</a:t>
            </a:r>
            <a:endParaRPr b="0" lang="en-US" sz="1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6" name="Text Box 21"/>
          <p:cNvSpPr/>
          <p:nvPr/>
        </p:nvSpPr>
        <p:spPr>
          <a:xfrm>
            <a:off x="4716360" y="3500280"/>
            <a:ext cx="1944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33cc"/>
                </a:solidFill>
                <a:latin typeface="Arial"/>
                <a:ea typeface="楷体_GB2312"/>
              </a:rPr>
              <a:t>心</a:t>
            </a:r>
            <a:endParaRPr b="0" lang="en-US" sz="1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7" name="TextBox 21"/>
          <p:cNvSpPr/>
          <p:nvPr/>
        </p:nvSpPr>
        <p:spPr>
          <a:xfrm>
            <a:off x="6154560" y="981000"/>
            <a:ext cx="2374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0" lang="en-US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 写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AutoShape 2"/>
          <p:cNvSpPr/>
          <p:nvPr/>
        </p:nvSpPr>
        <p:spPr>
          <a:xfrm>
            <a:off x="6227640" y="189000"/>
            <a:ext cx="2714760" cy="2087640"/>
          </a:xfrm>
          <a:custGeom>
            <a:avLst/>
            <a:gdLst>
              <a:gd name="textAreaLeft" fmla="*/ 619560 w 2714760"/>
              <a:gd name="textAreaRight" fmla="*/ 2095200 w 271476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>
              <a:alpha val="99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9" name="Text Box 3"/>
          <p:cNvSpPr/>
          <p:nvPr/>
        </p:nvSpPr>
        <p:spPr>
          <a:xfrm>
            <a:off x="6227640" y="62064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反义词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0" name="Text Box 4"/>
          <p:cNvSpPr/>
          <p:nvPr/>
        </p:nvSpPr>
        <p:spPr>
          <a:xfrm>
            <a:off x="3203640" y="62064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男─女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1" name="Text Box 5"/>
          <p:cNvSpPr/>
          <p:nvPr/>
        </p:nvSpPr>
        <p:spPr>
          <a:xfrm>
            <a:off x="3276720" y="177336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─小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2" name="Text Box 6"/>
          <p:cNvSpPr/>
          <p:nvPr/>
        </p:nvSpPr>
        <p:spPr>
          <a:xfrm>
            <a:off x="53964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白─黑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3" name="Text Box 7"/>
          <p:cNvSpPr/>
          <p:nvPr/>
        </p:nvSpPr>
        <p:spPr>
          <a:xfrm>
            <a:off x="468360" y="270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东─西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Text Box 8"/>
          <p:cNvSpPr/>
          <p:nvPr/>
        </p:nvSpPr>
        <p:spPr>
          <a:xfrm>
            <a:off x="468360" y="422100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北─南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5" name="Text Box 9"/>
          <p:cNvSpPr/>
          <p:nvPr/>
        </p:nvSpPr>
        <p:spPr>
          <a:xfrm>
            <a:off x="3276720" y="314172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上─下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6" name="Text Box 10"/>
          <p:cNvSpPr/>
          <p:nvPr/>
        </p:nvSpPr>
        <p:spPr>
          <a:xfrm>
            <a:off x="3276720" y="450864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热─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7" name="Text Box 11"/>
          <p:cNvSpPr/>
          <p:nvPr/>
        </p:nvSpPr>
        <p:spPr>
          <a:xfrm>
            <a:off x="6084720" y="28526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天─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8" name="Text Box 12"/>
          <p:cNvSpPr/>
          <p:nvPr/>
        </p:nvSpPr>
        <p:spPr>
          <a:xfrm>
            <a:off x="6084720" y="429264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去─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763640" y="260280"/>
            <a:ext cx="482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如果我是天使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如果我是天使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如果我是天使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我会让战争从我们身边消失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让“和平之花”永驻人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如果我是天使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我会让人们懂得环保意识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让蓝天绿水永驻人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如果我是天使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我会让爱心充满世界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让真诚善良永驻人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如果我是天使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我会挥厉剑，斩病魔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让健康平安永驻人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如果我是天使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我会传颂和平友谊之歌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手拉手，地球村，生命河在我们心中歌唱，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手拉手，地球村，生命河在我们心中歌唱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2" descr="001fc67952d10c40d1c720[1]"/>
          <p:cNvPicPr/>
          <p:nvPr/>
        </p:nvPicPr>
        <p:blipFill>
          <a:blip r:embed="rId1"/>
          <a:srcRect l="0" t="1297" r="0" b="10327"/>
          <a:stretch/>
        </p:blipFill>
        <p:spPr>
          <a:xfrm>
            <a:off x="2771640" y="1123920"/>
            <a:ext cx="3889440" cy="457992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3"/>
          <p:cNvSpPr/>
          <p:nvPr/>
        </p:nvSpPr>
        <p:spPr>
          <a:xfrm>
            <a:off x="6877080" y="1484280"/>
            <a:ext cx="1150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孩子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1403280" y="1413000"/>
            <a:ext cx="122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孩子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2"/>
          <p:cNvSpPr/>
          <p:nvPr/>
        </p:nvSpPr>
        <p:spPr>
          <a:xfrm>
            <a:off x="1258920" y="4005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白孩子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Text Box 3"/>
          <p:cNvSpPr/>
          <p:nvPr/>
        </p:nvSpPr>
        <p:spPr>
          <a:xfrm>
            <a:off x="5496120" y="40053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黑孩子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5" name="Picture 5" descr="photograph_hd_organic_babies_photograph_1920_1600_02_8210_10[1]"/>
          <p:cNvPicPr/>
          <p:nvPr/>
        </p:nvPicPr>
        <p:blipFill>
          <a:blip r:embed="rId2"/>
          <a:srcRect l="1383" t="0" r="21711" b="7068"/>
          <a:stretch/>
        </p:blipFill>
        <p:spPr>
          <a:xfrm>
            <a:off x="4429080" y="765000"/>
            <a:ext cx="3957840" cy="29894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" descr="一起歌-白孩子.jpg"/>
          <p:cNvPicPr/>
          <p:nvPr/>
        </p:nvPicPr>
        <p:blipFill>
          <a:blip r:embed="rId3"/>
          <a:stretch/>
        </p:blipFill>
        <p:spPr>
          <a:xfrm>
            <a:off x="663480" y="692280"/>
            <a:ext cx="3943440" cy="3070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3"/>
          <p:cNvSpPr/>
          <p:nvPr/>
        </p:nvSpPr>
        <p:spPr>
          <a:xfrm>
            <a:off x="826920" y="692280"/>
            <a:ext cx="76327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起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男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女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手和手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拉一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大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小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脸和脸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贴一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白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黑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头和头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靠一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全世界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小孩子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心和心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连一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Box 1"/>
          <p:cNvSpPr/>
          <p:nvPr/>
        </p:nvSpPr>
        <p:spPr>
          <a:xfrm>
            <a:off x="0" y="18900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男孩子，女孩子，手和手，拉一起。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7"/>
          <p:cNvSpPr/>
          <p:nvPr/>
        </p:nvSpPr>
        <p:spPr>
          <a:xfrm>
            <a:off x="1252800" y="6024600"/>
            <a:ext cx="6652440" cy="825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全世界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小孩子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心和心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连一起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18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一起歌       男孩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女孩        手和手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拉起          笑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全世界       心中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连一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1512720" cy="16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GB Pinyinok-C"/>
                <a:ea typeface="GB Pinyinok-C"/>
              </a:rPr>
              <a:t>qǐ</a:t>
            </a:r>
            <a:br>
              <a:rPr sz="8000"/>
            </a:br>
            <a:r>
              <a:rPr b="1" lang="zh-CN" sz="8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起</a:t>
            </a:r>
            <a:endParaRPr b="0" lang="en-US" sz="8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71280" y="3068280"/>
            <a:ext cx="58323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5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起来　　起床　　　　　　　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起劲　　起火</a:t>
            </a:r>
            <a:r>
              <a:rPr b="0" lang="zh-CN" sz="5400" spc="-1" strike="noStrike">
                <a:solidFill>
                  <a:srgbClr val="ff33cc"/>
                </a:solidFill>
                <a:latin typeface="Verdana"/>
                <a:ea typeface="黑体"/>
              </a:rPr>
              <a:t>　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4:57:24Z</dcterms:created>
  <dc:creator>一年级</dc:creator>
  <dc:description/>
  <dc:language>en-US</dc:language>
  <cp:lastModifiedBy>微软用户</cp:lastModifiedBy>
  <dcterms:modified xsi:type="dcterms:W3CDTF">2014-10-23T08:52:59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